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9.png" ContentType="image/png"/>
  <Override PartName="/ppt/media/image34.png" ContentType="image/png"/>
  <Override PartName="/ppt/media/image38.jpeg" ContentType="image/jpeg"/>
  <Override PartName="/ppt/media/image35.png" ContentType="image/png"/>
  <Override PartName="/ppt/media/image36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3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5.png" ContentType="image/png"/>
  <Override PartName="/ppt/media/image19.jpeg" ContentType="image/jpeg"/>
  <Override PartName="/ppt/media/image5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6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5145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<Relationship Id="rId4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8-08-25T10:17:17.538000000" idx="2">
    <p:pos x="5757" y="1076"/>
    <p:text/>
  </p:cm>
</p:cmLst>
</file>

<file path=ppt/comments/comment6.xml><?xml version="1.0" encoding="utf-8"?>
<p:cmLst xmlns:p="http://schemas.openxmlformats.org/presentationml/2006/main">
  <p:cm authorId="0" dt="2018-08-25T10:17:13.650000000" idx="1">
    <p:pos x="5712" y="97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F96-DA4C-4E67-8FD9-CF66DE30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B14-8258-4E18-B31F-C5D0310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649D3-EC09-4F0D-887B-9D47966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6DB82-0301-49D1-B79D-35DCA2F2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5E8CE7-59C4-4FA8-A388-B2E2BF46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01EC3-5A57-44B0-B455-4E83E61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353E9-E2A7-41F8-AD0B-62E53453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510CE-7FC3-4868-96A7-D9D54EB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38304-D170-4572-9A63-B9C02A9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EBCED-90A8-4E0D-8780-27836871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D547D-D7CA-49F1-B509-7A91AC9C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1CA736-858B-4E4D-9F55-5D158DC4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336-6B6C-41F2-9484-28CA789D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8C221A-7636-42FB-9664-0C70FC4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AC631-B75E-4720-AE15-96A59B7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E4793A-94E6-4E17-97C5-41439E4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382C1-79AA-4594-B0FC-64EC1A4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93DCF-9CB4-4CCB-9BAD-64ADE374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662EE-ECDB-4039-8EE4-01DC669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CE1992-D82C-4617-A5F8-A527903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643F41-CD5C-477A-9489-5E2D6D0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8C4775-9BE9-4CCA-A767-F507C509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8C3A4-2989-46C2-9EE4-D5C1E56C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F2E-D4D5-46C8-B42D-36632847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6D24A-7835-43F3-903D-CF71470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0DE69-8447-4D7A-9E5C-8AF87712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80E326-EDA1-4C76-AA8A-2B21B995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FC2F89-E4A6-4BC9-BAA1-996A262A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96BA8F-17C0-4278-9C40-E9898576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4B6464-7DD9-4477-AA85-5EBAE7FE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E5D426-1838-448E-AEA2-B684B9F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80AF77-9E9D-4477-A731-70F2F61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FDD051-6A11-4965-9940-BF633CC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B2EEDD-6F9B-4A75-A22E-D9F1A65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B8D-1B94-4C6C-AE7F-88ABCB47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178297-1A09-4BDC-BE11-89B30A1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1DC61-96A2-4138-BE41-F0F826D6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C5A86-D368-40CB-BB42-E56C8C23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791917-D91F-4196-B0A2-2D343FE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3D7053-8A4F-4BAF-A1A3-735AC6D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9D84D1-FB44-4377-B62E-54A62318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E7AF2A-127D-42E3-B5CA-AD3AADC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803FCC-723D-4AAF-B019-C2A19D2F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BD0229-FBEF-4DF3-8A58-3C5F8B6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51575D-6444-4F65-8091-AA83DE5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473-9524-43BD-AAFD-2B1F869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5C5CA8-F0FA-4855-B36C-8CED24B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7B346-E567-45BC-AE3B-D7501C60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8728AF-1979-41BA-BDFD-735E7B5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0A7AAE-B2BD-4D35-BAF8-E8CF564C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1B375B-FF86-4737-89EE-79BA5FA2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857494-6541-4DAE-8066-99AFD77C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350F9A-7B7C-4831-965F-1B73D55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933C5D-CE05-4A20-9BA6-9C20852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DA11CD-C62B-4EDF-B744-BBC223B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488198-976C-45F3-A54C-7A3C8F7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B89A-CE40-4015-B7DF-7F3C11C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0C53A-1B5D-45B5-BAC8-6D83D23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888F6-EACC-4ED8-8145-85843AE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52F15D-AFA0-4A76-B3BD-02A1603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4FB0C3-E63C-4589-885F-150DFC7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D7374B-E621-45FE-BB82-7681355B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4E7CE0-23A4-4611-91BC-2A9C5AF8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EBD146-64A6-40B6-B085-47207966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C0DBE2-CC22-4264-88D8-09293DE1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1E2C7D-2B30-460E-95B7-EC7388F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02C76E-73EE-4442-A6EB-52BC453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EDC6-EC37-488D-AF79-67E9A2E6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A1DDCE-A4EE-4403-88C7-5348DC7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A0038F-7353-4AF6-9175-3A7ED33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1FEBD5-98B8-44FA-8AD5-30DD5A24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DF89F5-0362-4A66-B1EC-43B2E9B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457EA-9813-4CC1-844D-78EE3A5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3E4A96-6381-4707-B7E6-F13CBC6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88453F-9453-4247-B926-EF6075C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DD8FFF-836F-43C4-85BE-9D509740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ACBF19-1F80-41A3-B577-0D6ACFC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2A317E-2CE7-4766-9D39-526E0D2B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A353-8E60-4D14-8F20-193E4A7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5FE8EE-122B-45FC-BC70-372FAF8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E60DC5-A8C7-4C3E-B5FD-79D3DCA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FA5D66-BF35-4E5D-9958-9C4ECBC8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BA335-EADB-4C12-AD57-E50EA78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4F833D-4D9E-4945-A679-5047BEE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337EE5-3C9A-4FDC-9B1C-C9FE1D6C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9214E2-DD67-4F7F-8D94-CE5C6A6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D66375-366C-469A-B831-4F81E4D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05D4A5-2810-4DC2-80F2-6881B6D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E18681-A7A0-44EF-BB36-D5090DA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82D-A1A8-42F9-B04B-355DE48F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E67C5F-6D3A-4B12-9C10-E93E5E36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0D0105-3B64-496B-95DB-86F892EF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E34898-08BC-4141-B2B4-0C51D90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BD1139-1F13-4D41-9C93-5075992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B71535-252C-474D-BAB3-86DC66D0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F20058-E46B-4A78-ACE1-28E6821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D46292-8906-43CA-9A00-BF33B781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FDE2FE-67A9-4CC5-8784-15233B5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009BD2-08FA-4BD5-AEC1-D8CD613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168999-11DB-4A0B-B39D-F72B61C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33D5-8064-4BE3-98D1-79BCD71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46A257-CC42-4937-A51E-699A772F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8EB8F8-A01A-45F8-A3B9-DC0ACE35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90FE42-9E19-4601-A25E-5B648BE1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138E26-C39F-470E-BFBE-595A0F6D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F20089-E208-41EE-BB4C-BBC1C4C9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83557D-4C03-43CC-9BDF-C7A8481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12DCD5-5115-4E6D-B220-7E03C86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CC8501-BC36-4425-A850-8C5C713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1223A5-1A71-41F9-85BB-CA9C5DF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3C9962-80C1-4EE7-9DE9-B5CBF93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ABE-4082-4B22-A914-1A7528DF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E255-771E-47DA-8A75-8CBFA90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C35286-A026-421E-A887-99881BC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1A5B17-173F-4BD4-97AF-E7FD0ED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077F87-AF38-4F04-81D6-C1DBD8AD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B74112-DCB0-4341-8482-033AFFA0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E1120F-E7BB-4A20-B6B3-D0E5D745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E1AB3C-E787-4985-ABB8-0F7E3BD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A2F284-EC6F-4FD4-B5F0-6643F75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0B40D2-DBE3-4761-A81C-EA5DE26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086929-4A05-495A-98B8-486A5AF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77FBA0-4134-4FE9-9BB7-C8382412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682-3DFE-4EEB-8792-C13BFCF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F5ABF1-B865-4D46-BBD2-47563CA9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5A120D-CC77-4CB3-B47A-9D0C2E5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342B96-9233-4127-946F-6E31AA5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E31D03-0399-4AF6-A8BF-E2A0765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9B174F-CA05-4D1A-AC7B-4B043F69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3A0E00-D114-405B-9B47-1F51E74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F44202-82E8-491F-B4C6-64D20EA3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01390F-E84A-4336-B85D-F050A4E3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2DBA35-3029-4F0E-A070-D49E80C8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5FBDDC-91BA-4CAD-94C5-1930644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4F5E-2BDD-497B-950B-8B36B18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D91698-5BB7-4A24-8BE1-34D0897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DA83E4-89D1-439E-B079-24611BD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692E33-D6BA-4D1F-B705-D0C5764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A898DD-38A6-4AF5-8E0F-3CC365E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6C4E99-2E95-47C5-B3AC-E349D8CC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1872F1-1328-457A-93BC-0C087F0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00A9A9-3A3F-453D-9EA7-0986B22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0A77D5-CCAF-4573-834D-1A9C6993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637E7A-CD30-4DED-BE83-056538D2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B8FB57-A821-4DB3-8179-3AA29F55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3EFF-F0AA-406E-867B-2DF19E3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A01539-D160-4516-B108-C681CEF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297941-87E6-4DA5-A7A1-CE86C70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6DB29F-80FC-445D-92A6-E25017C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F810E24-27FE-454A-9B05-2D10426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F07393-7407-477C-8BDB-C9B3AA47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EB2792-936A-4A10-9E3E-622ADFB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260D2F-31DA-4B95-998F-868BE42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06BB74-0E4A-4A11-A041-A468ACC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E94809-75E0-4167-BDF4-517AC2D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74FD4B-F7D5-42E0-9B8E-FBC83382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86F4-87AD-4A01-82DE-1BA8B5FD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B1E68A-665D-4DAF-A540-ADF0256C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A23028-A154-4109-9017-21F6BF52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FEE508-0FA4-4CE8-B84B-C96779FD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67C9A3-FBDC-48FF-BC70-D8EFEF6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2DC09E-9C77-42AE-AF0D-C5F34495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DA6067-12EE-4E1E-8A53-D804B79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6247E7-D83C-405B-A536-DCA8FEB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D6E516-322E-40DE-AB86-8A7A995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69643C-7E3E-4F21-96EB-2A323B0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FC63CD-1C15-4C7C-AD6C-128DE1B1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053D2-D676-4186-86A9-FCF195DA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6DA843-7EC7-4B69-8603-0FAFF426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E48652-D0E4-4E05-ABED-7AD78FC8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44B514-DB54-4E63-B80A-12C8F13E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7456F1-F883-46FB-92FB-9525B7E0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E9D42F6-F21D-4E2C-A910-34350A8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938E02-A9DF-4A7D-98E8-BD8FA76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2A1AD9-AA69-4E48-87C7-9AFC1BB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835044-1714-487A-964A-5666F82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9A2205-932C-4287-BCCC-E5FBF82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06EF0B-B20F-4819-80B5-AB284B6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069AD-BFD6-4D45-A392-602DAE8B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CC7421-0B97-4B88-8628-8B0D665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46D32F-BD86-41EB-BFF7-C4C1000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AAF6E8A-CC7E-419A-8C54-6FF4868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965292-D1F2-4C86-A3E8-E41A4F94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34DD930-0BE0-4EE4-95F0-9A7B45D9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015166-B1A0-4F34-8B9B-22C7B1F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3E3934-6A4B-4DCB-B934-53F995D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8951AE-8486-4F44-BE39-0C1071E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BF08C8-378B-4FA4-9CB1-7CCED5C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C739DB-C7F0-40E7-826C-ECEF3A81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5BC2E-4D35-4825-A198-1A45374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45B24C-8E9E-4454-87C1-AF60A4A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277250-4875-407D-94AB-596D749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4D80DD-35B4-4683-AA9E-3716AFA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00C6E2-6028-4C8E-85D7-6AA23B7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F00BD6-070C-43CF-8831-0AD20CDA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F8C703-B88E-42EE-A209-17028D2E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464798-E31C-4175-BEF5-7B42CC75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59607F-426B-4DAC-BB7C-D33A319B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362DB1-974B-436C-9EAF-013CDDB9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AA0A8E-6955-4808-904F-E2835F9B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9BD9E-2CA7-4786-A0FC-09ECE096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FDBDBA-504A-40C6-AD05-1ABE994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964D62-7435-4990-A3EB-71F4855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06E5B1-28A0-4499-AD8E-85F999BB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EE9781-C864-4A49-9E2D-59B9F1B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85733D-D833-4008-885D-9761C14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B16124-45D6-4491-90DB-1F3ABBE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F368A2-4511-4D35-AB19-DA87883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8ABDCF-5596-4475-8E2E-8FACAD7D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7F8B64-8317-433B-8BF5-6D8D4C12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F5A94-4170-42CA-BF16-51F6A58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A84-9AA2-4945-BFDC-57DAEE15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608A0-2186-47C0-BBC7-FDDF76B6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95808-D2D0-4D15-91A5-368EC18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200C2-E36C-4F06-8EC5-754CD6F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2F392-26E6-4CF6-9CD2-02DFB30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BDAB5-48DC-412D-B31A-9BEEC54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48AFE-3C34-4F06-B5E9-73E2C8DF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59C13-8A64-43C9-A6E9-05893469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021A8-F4FB-4187-BD71-94BFE341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62225-A8B8-4634-8B6C-A267991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B7F0D-1762-4515-A107-1E92677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2E2-979D-43D2-BEFC-A32AA84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58A17-A69D-4B8F-BB66-D914CAC8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33132-AF49-4109-A76A-28B60982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EF5F4-9FE4-4AB9-9076-1FC3728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955AC-9383-4FF3-8355-DCD26FF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DC1E5-A0A4-4984-8CC9-7D4DA55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16C27-926C-414C-8062-9FC133F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BA0DE-7F2C-44DD-8DAB-E45B6FD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4373C-013E-458E-99E4-89E82C4E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DAADB-F224-4B69-BA48-3CAC424A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30603-F559-4BAF-8F4B-92B98CE4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38B-10EC-4336-B30E-E96D4FBC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0AD71-F143-41E2-978A-B825E42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9832D-2D56-4EE4-9766-7518721D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115E2-D13F-4902-9333-454E41E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91620-7893-4284-8B80-A0BC0B3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296A6-9614-49FA-8889-285269B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29C25-11FB-49AA-A607-07C66DA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54DBD-108B-4A89-B279-252FB20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15E9F-3A4C-4994-BA6A-ABCB0FB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8D2DF-E463-49EE-9032-388A52B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A174F-829F-4ABB-85D5-AD3802E4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1DE-1539-4DC6-A4F3-E90E5A6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96FAA-6F4F-40E0-B78F-14630C5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36C9C-56B8-4161-AB47-02875898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0655E-B849-4775-BE2C-6E03269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A7F86-69AF-4FF1-B446-9D732BC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3C572-2A11-4334-AF56-59A68CE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D0CDD-8627-40F9-83D6-C163BE1D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5FC5A-D627-403B-ABFA-524F28D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15BB5-EFCC-4285-864C-50CAC0F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9B8FE-B8B7-4D42-AEDD-6204520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BA7B5-5DFB-4E6F-99FC-6186A7D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9F3-8843-4DFC-815B-45F9FA2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8464A-5257-46F9-A0B6-2EB74B5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08A9A-5386-4702-BAD0-E93F08B2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05A00-4B1C-4653-A7E1-12D8DDE5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4EC0C-E6A6-4E9F-8517-C019F7A9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7261D-B4CA-4A35-8890-9DEFF384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9BAEB-319C-4129-91D7-23FA424F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2E3A7-DB29-4F9C-9ABE-6FEF3C30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47A94-C8B6-4503-A7B7-FEBA4CBB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FCECB-E1DC-4B76-88C7-A282AA7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CB9F9-0696-470B-A2FC-7E871CA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157-134A-436A-BA82-E367D7CD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8539D-6456-436A-93FF-0091667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37DED-8137-4DAD-B6D5-A2C92FC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37923-4F60-4B3D-B321-B61706C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3B928-CF44-4434-90F9-35371E88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5D51E-C552-44D1-9AFC-1DC38F0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E7310-0228-4996-9133-90FFE283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23F88-8E89-487C-B59A-F1EF309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6C6865-1BD4-480E-AF8D-3BA14F5F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365A0-ED3B-472E-93D3-04A50E6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E4AF1-7E13-4791-8B50-2153A8E6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C7D-964E-4031-B7B2-2665033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433DF-29CF-4EA9-967E-76CE2F4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A6D4F-EA48-4803-A3CB-C45DACF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E9E8E-8E71-49F1-9F7C-6A6C304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9FC3E-DA89-443B-8B5A-A46E189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487B7-9B3A-434D-A54F-C5BAAE03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97E2E-C9BC-417A-A571-8FC1B41D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4976D-28A7-4E37-A5CB-44688BD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DDB6EC-3274-4EFC-A611-B41A78E7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73E22-7D97-45DB-92E9-F16E385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338BB-1DFF-42E6-A380-D4C1E60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846-D760-4D5D-A395-BBD4782A79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C81C-C5D0-434E-A412-E753C65324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4CA-2582-4C3E-AC72-A257B67EC8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9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5D2-D0B4-4CC0-902E-D47DA25103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30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4FD-811F-46C6-B349-67FE00D40C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2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CEFF-57A7-4F2D-B374-0B3DEB0C36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3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388-2CE9-4DFB-8784-7093343946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5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FCE9-2F53-43C9-BEF5-401C54C220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6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BB9-89A9-45B4-8365-7458458D0D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F439-2A04-4159-8ECE-CFF8F0BA7B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9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DB7F-D41C-4698-9F07-51B3090ABB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197-571B-4923-A0E9-65FC56AE4A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FEA2-B06D-4F68-AE29-91A0F0C6AE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D264-BD7C-405A-A156-6D95B36C31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272E-C327-4F4E-8ADA-B60F2FD1DB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B0F1-7251-47FA-831E-2EED0FBCBD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DBCE-8A1F-4AE3-8B7F-9FC2B0BB60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9A1-19A9-443B-AB42-76BBA13AFB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1AE-64BA-4142-B595-936F8F1D00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99D-2B4D-4114-A2FD-BB0EFBA43B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D94-F4E2-4C99-8EEC-C8D94CC204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954-0123-4915-9371-EB576EEE72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1ED-B0DB-4BCB-BADF-DB983A6697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AC2-E580-4A32-9013-30ED96835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342-88EA-446D-819D-42DD9F820A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2DE-A45A-42DF-98EB-31CEA26120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D12F-3786-4E17-A621-BDEC63F122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DB5-6BE2-432E-B522-DACCCADEBA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1DD-0FF5-4648-9B02-E640F9A0B6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1195-F4D2-4EFB-98B4-818361E8FF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8117-454F-40E8-9145-F269AB4972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60AB-9192-4C15-B463-BAD5C7DF7C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5713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1028520">
              <a:spcBef>
                <a:spcPts val="74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1485720">
              <a:spcBef>
                <a:spcPts val="74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148572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FCC3-201E-4959-9185-0BAD37D1A1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FF61-07E0-43F4-ABFB-2E675E783E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397-1980-4795-8AA6-305D9D5513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F935-91C9-4A51-8510-F58696D08E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4983-D86A-45F7-8E81-68990C99EC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A6FE-270A-4980-8678-1532815539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18A8-0ECE-4909-94D5-4DCBA00570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909-9A4D-495B-92FD-84494C460D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673-20E8-47A3-97D1-14CCAB18D7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434-5CA3-4B14-98CB-BFFCE8E96B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4CB-1355-4BE9-8CD0-FE14394B33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948-6712-4CAD-86EE-0FDBBFC8EE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21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43E0-7A72-4B46-ADDE-1A53313226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3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25B7-CB98-4067-A194-5E303BA6E0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24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8604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257040" indent="4287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257040" indent="771840">
              <a:spcBef>
                <a:spcPts val="37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257040" indent="1114560">
              <a:spcBef>
                <a:spcPts val="37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257040" indent="1114560">
              <a:spcBef>
                <a:spcPts val="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CEA9-FE89-459A-B60F-2EEC8DECEE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6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39A-B890-44B4-A6C7-6AD8057135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27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5.wmf"/><Relationship Id="rId9" Type="http://schemas.openxmlformats.org/officeDocument/2006/relationships/image" Target="../media/image18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5.wmf"/><Relationship Id="rId6" Type="http://schemas.openxmlformats.org/officeDocument/2006/relationships/image" Target="../media/image18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97.xml"/><Relationship Id="rId10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5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9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5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0.png"/><Relationship Id="rId3" Type="http://schemas.openxmlformats.org/officeDocument/2006/relationships/image" Target="../media/image5.wmf"/><Relationship Id="rId4" Type="http://schemas.openxmlformats.org/officeDocument/2006/relationships/image" Target="../media/image18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image" Target="../media/image5.wmf"/><Relationship Id="rId6" Type="http://schemas.openxmlformats.org/officeDocument/2006/relationships/image" Target="../media/image18.wmf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97.xml"/><Relationship Id="rId9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8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27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5.wmf"/><Relationship Id="rId9" Type="http://schemas.openxmlformats.org/officeDocument/2006/relationships/image" Target="../media/image18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2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wmf"/><Relationship Id="rId10" Type="http://schemas.openxmlformats.org/officeDocument/2006/relationships/image" Target="../media/image18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矩形 1048580"/>
          <p:cNvSpPr/>
          <p:nvPr/>
        </p:nvSpPr>
        <p:spPr>
          <a:xfrm>
            <a:off x="1143000" y="4300560"/>
            <a:ext cx="6858000" cy="84456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图片 2097151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3911760" y="4248000"/>
            <a:ext cx="1888920" cy="1792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2097152" descr=""/>
          <p:cNvPicPr/>
          <p:nvPr/>
        </p:nvPicPr>
        <p:blipFill>
          <a:blip r:embed="rId2"/>
          <a:srcRect l="0" t="0" r="33527" b="78350"/>
          <a:stretch/>
        </p:blipFill>
        <p:spPr>
          <a:xfrm>
            <a:off x="4902120" y="3900600"/>
            <a:ext cx="4111560" cy="124452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2097153" descr=""/>
          <p:cNvPicPr/>
          <p:nvPr/>
        </p:nvPicPr>
        <p:blipFill>
          <a:blip r:embed="rId3"/>
          <a:srcRect l="33526" t="0" r="0" b="78352"/>
          <a:stretch/>
        </p:blipFill>
        <p:spPr>
          <a:xfrm>
            <a:off x="79200" y="4013280"/>
            <a:ext cx="3953160" cy="116028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2097154" descr=""/>
          <p:cNvPicPr/>
          <p:nvPr/>
        </p:nvPicPr>
        <p:blipFill>
          <a:blip r:embed="rId4"/>
          <a:stretch/>
        </p:blipFill>
        <p:spPr>
          <a:xfrm>
            <a:off x="3187800" y="4844880"/>
            <a:ext cx="447480" cy="32868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2097155" descr=""/>
          <p:cNvPicPr/>
          <p:nvPr/>
        </p:nvPicPr>
        <p:blipFill>
          <a:blip r:embed="rId5"/>
          <a:stretch/>
        </p:blipFill>
        <p:spPr>
          <a:xfrm>
            <a:off x="2384280" y="4248000"/>
            <a:ext cx="405000" cy="344520"/>
          </a:xfrm>
          <a:prstGeom prst="rect">
            <a:avLst/>
          </a:prstGeom>
          <a:ln w="0">
            <a:noFill/>
          </a:ln>
        </p:spPr>
      </p:pic>
      <p:grpSp>
        <p:nvGrpSpPr>
          <p:cNvPr id="990" name="Group 9"/>
          <p:cNvGrpSpPr/>
          <p:nvPr/>
        </p:nvGrpSpPr>
        <p:grpSpPr>
          <a:xfrm>
            <a:off x="5519880" y="3421080"/>
            <a:ext cx="996840" cy="1542960"/>
            <a:chOff x="5519880" y="3421080"/>
            <a:chExt cx="996840" cy="1542960"/>
          </a:xfrm>
        </p:grpSpPr>
        <p:pic>
          <p:nvPicPr>
            <p:cNvPr id="991" name="图片 2097157" descr=""/>
            <p:cNvPicPr/>
            <p:nvPr/>
          </p:nvPicPr>
          <p:blipFill>
            <a:blip r:embed="rId6"/>
            <a:srcRect l="35498" t="0" r="32258" b="80045"/>
            <a:stretch/>
          </p:blipFill>
          <p:spPr>
            <a:xfrm>
              <a:off x="5519880" y="3421080"/>
              <a:ext cx="3218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图片 2097158" descr=""/>
            <p:cNvPicPr/>
            <p:nvPr/>
          </p:nvPicPr>
          <p:blipFill>
            <a:blip r:embed="rId7"/>
            <a:stretch/>
          </p:blipFill>
          <p:spPr>
            <a:xfrm>
              <a:off x="5580000" y="3636360"/>
              <a:ext cx="936720" cy="132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3" name="图片 2097159" descr=""/>
          <p:cNvPicPr/>
          <p:nvPr/>
        </p:nvPicPr>
        <p:blipFill>
          <a:blip r:embed="rId8"/>
          <a:stretch/>
        </p:blipFill>
        <p:spPr>
          <a:xfrm>
            <a:off x="2789280" y="3543480"/>
            <a:ext cx="1162080" cy="1301400"/>
          </a:xfrm>
          <a:prstGeom prst="rect">
            <a:avLst/>
          </a:prstGeom>
          <a:ln w="0">
            <a:noFill/>
          </a:ln>
        </p:spPr>
      </p:pic>
      <p:sp>
        <p:nvSpPr>
          <p:cNvPr id="994" name="TextBox 1048583"/>
          <p:cNvSpPr/>
          <p:nvPr/>
        </p:nvSpPr>
        <p:spPr>
          <a:xfrm>
            <a:off x="3716280" y="1568520"/>
            <a:ext cx="1972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6600cc"/>
                </a:solidFill>
                <a:latin typeface="楷体"/>
                <a:ea typeface="楷体"/>
              </a:rPr>
              <a:t>人教版</a:t>
            </a:r>
            <a:r>
              <a:rPr b="0" lang="zh-CN" sz="2100" spc="-1" strike="noStrike">
                <a:solidFill>
                  <a:srgbClr val="6600cc"/>
                </a:solidFill>
                <a:latin typeface="楷体"/>
                <a:ea typeface="楷体"/>
              </a:rPr>
              <a:t>(</a:t>
            </a:r>
            <a:r>
              <a:rPr b="0" lang="zh-CN" sz="2100" spc="-1" strike="noStrike">
                <a:solidFill>
                  <a:srgbClr val="6600cc"/>
                </a:solidFill>
                <a:latin typeface="楷体"/>
                <a:ea typeface="楷体"/>
              </a:rPr>
              <a:t>三年级起点</a:t>
            </a:r>
            <a:r>
              <a:rPr b="0" lang="zh-CN" sz="2100" spc="-1" strike="noStrike">
                <a:solidFill>
                  <a:srgbClr val="6600cc"/>
                </a:solidFill>
                <a:latin typeface="楷体"/>
                <a:ea typeface="楷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048581"/>
          <p:cNvSpPr/>
          <p:nvPr/>
        </p:nvSpPr>
        <p:spPr>
          <a:xfrm>
            <a:off x="1962000" y="812880"/>
            <a:ext cx="541836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cc"/>
                </a:solidFill>
                <a:latin typeface="宋体"/>
              </a:rPr>
              <a:t>Unit </a:t>
            </a:r>
            <a:r>
              <a:rPr b="1" lang="en-US" sz="4500" spc="-1" strike="noStrike">
                <a:solidFill>
                  <a:srgbClr val="6600cc"/>
                </a:solidFill>
                <a:latin typeface="宋体"/>
              </a:rPr>
              <a:t>2</a:t>
            </a:r>
            <a:r>
              <a:rPr b="1" lang="zh-CN" sz="4500" spc="-1" strike="noStrike">
                <a:solidFill>
                  <a:srgbClr val="6600cc"/>
                </a:solidFill>
                <a:latin typeface="宋体"/>
              </a:rPr>
              <a:t>   </a:t>
            </a:r>
            <a:r>
              <a:rPr b="1" lang="en-US" sz="4500" spc="-1" strike="noStrike">
                <a:solidFill>
                  <a:srgbClr val="6600cc"/>
                </a:solidFill>
                <a:latin typeface="宋体"/>
              </a:rPr>
              <a:t>Colou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图片 27" descr=""/>
          <p:cNvPicPr/>
          <p:nvPr/>
        </p:nvPicPr>
        <p:blipFill>
          <a:blip r:embed="rId9"/>
          <a:stretch/>
        </p:blipFill>
        <p:spPr>
          <a:xfrm>
            <a:off x="3122640" y="1847880"/>
            <a:ext cx="3038400" cy="10461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组合 74"/>
          <p:cNvGrpSpPr/>
          <p:nvPr/>
        </p:nvGrpSpPr>
        <p:grpSpPr>
          <a:xfrm>
            <a:off x="934920" y="844560"/>
            <a:ext cx="1346400" cy="343080"/>
            <a:chOff x="934920" y="844560"/>
            <a:chExt cx="1346400" cy="343080"/>
          </a:xfrm>
        </p:grpSpPr>
        <p:sp>
          <p:nvSpPr>
            <p:cNvPr id="1130" name="圆角矩形 1048660"/>
            <p:cNvSpPr/>
            <p:nvPr/>
          </p:nvSpPr>
          <p:spPr>
            <a:xfrm>
              <a:off x="934920" y="846720"/>
              <a:ext cx="1333800" cy="33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048661"/>
            <p:cNvSpPr/>
            <p:nvPr/>
          </p:nvSpPr>
          <p:spPr>
            <a:xfrm>
              <a:off x="1002240" y="844560"/>
              <a:ext cx="1279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Box 1048662"/>
          <p:cNvSpPr/>
          <p:nvPr/>
        </p:nvSpPr>
        <p:spPr>
          <a:xfrm>
            <a:off x="2332080" y="792000"/>
            <a:ext cx="471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ook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组合 75"/>
          <p:cNvGrpSpPr/>
          <p:nvPr/>
        </p:nvGrpSpPr>
        <p:grpSpPr>
          <a:xfrm>
            <a:off x="946080" y="3316320"/>
            <a:ext cx="1335240" cy="434520"/>
            <a:chOff x="946080" y="3316320"/>
            <a:chExt cx="1335240" cy="434520"/>
          </a:xfrm>
        </p:grpSpPr>
        <p:sp>
          <p:nvSpPr>
            <p:cNvPr id="1134" name="矩形 1048663"/>
            <p:cNvSpPr/>
            <p:nvPr/>
          </p:nvSpPr>
          <p:spPr>
            <a:xfrm>
              <a:off x="1131480" y="3316320"/>
              <a:ext cx="1149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图片 2097307" descr=""/>
            <p:cNvPicPr/>
            <p:nvPr/>
          </p:nvPicPr>
          <p:blipFill>
            <a:blip r:embed="rId1"/>
            <a:stretch/>
          </p:blipFill>
          <p:spPr>
            <a:xfrm>
              <a:off x="946080" y="3377520"/>
              <a:ext cx="23760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TextBox 1048664"/>
          <p:cNvSpPr/>
          <p:nvPr/>
        </p:nvSpPr>
        <p:spPr>
          <a:xfrm>
            <a:off x="2281320" y="1511280"/>
            <a:ext cx="55958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look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单独使用时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表示提醒他人看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强调看的动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强调看的内容时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look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后要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at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1048666"/>
          <p:cNvSpPr/>
          <p:nvPr/>
        </p:nvSpPr>
        <p:spPr>
          <a:xfrm>
            <a:off x="2281320" y="3271680"/>
            <a:ext cx="2651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ook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看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图片 2097309" descr=""/>
          <p:cNvPicPr/>
          <p:nvPr/>
        </p:nvPicPr>
        <p:blipFill>
          <a:blip r:embed="rId2"/>
          <a:stretch/>
        </p:blipFill>
        <p:spPr>
          <a:xfrm flipH="1">
            <a:off x="7313400" y="3157560"/>
            <a:ext cx="996840" cy="1154160"/>
          </a:xfrm>
          <a:prstGeom prst="rect">
            <a:avLst/>
          </a:prstGeom>
          <a:ln w="0">
            <a:noFill/>
          </a:ln>
        </p:spPr>
      </p:pic>
      <p:grpSp>
        <p:nvGrpSpPr>
          <p:cNvPr id="1139" name="组合 77"/>
          <p:cNvGrpSpPr/>
          <p:nvPr/>
        </p:nvGrpSpPr>
        <p:grpSpPr>
          <a:xfrm>
            <a:off x="5194440" y="3246480"/>
            <a:ext cx="1241280" cy="1662120"/>
            <a:chOff x="5194440" y="3246480"/>
            <a:chExt cx="1241280" cy="1662120"/>
          </a:xfrm>
        </p:grpSpPr>
        <p:pic>
          <p:nvPicPr>
            <p:cNvPr id="1140" name="图片 2097310" descr="연필"/>
            <p:cNvPicPr/>
            <p:nvPr/>
          </p:nvPicPr>
          <p:blipFill>
            <a:blip r:embed="rId3"/>
            <a:stretch/>
          </p:blipFill>
          <p:spPr>
            <a:xfrm>
              <a:off x="5543640" y="3246480"/>
              <a:ext cx="37764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图片 2097311" descr="꽃"/>
            <p:cNvPicPr/>
            <p:nvPr/>
          </p:nvPicPr>
          <p:blipFill>
            <a:blip r:embed="rId4"/>
            <a:stretch/>
          </p:blipFill>
          <p:spPr>
            <a:xfrm>
              <a:off x="5194440" y="3706200"/>
              <a:ext cx="1241280" cy="120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2" name="组合 1"/>
          <p:cNvGrpSpPr/>
          <p:nvPr/>
        </p:nvGrpSpPr>
        <p:grpSpPr>
          <a:xfrm>
            <a:off x="965160" y="1620720"/>
            <a:ext cx="1360440" cy="434520"/>
            <a:chOff x="965160" y="1620720"/>
            <a:chExt cx="1360440" cy="434520"/>
          </a:xfrm>
        </p:grpSpPr>
        <p:sp>
          <p:nvSpPr>
            <p:cNvPr id="1143" name="矩形 2"/>
            <p:cNvSpPr/>
            <p:nvPr/>
          </p:nvSpPr>
          <p:spPr>
            <a:xfrm>
              <a:off x="1175760" y="1620720"/>
              <a:ext cx="1149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4" name="图片 3" descr=""/>
            <p:cNvPicPr/>
            <p:nvPr/>
          </p:nvPicPr>
          <p:blipFill>
            <a:blip r:embed="rId5"/>
            <a:stretch/>
          </p:blipFill>
          <p:spPr>
            <a:xfrm>
              <a:off x="965160" y="1701360"/>
              <a:ext cx="237600" cy="27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5" name="图片 2097172" descr=""/>
          <p:cNvPicPr/>
          <p:nvPr/>
        </p:nvPicPr>
        <p:blipFill>
          <a:blip r:embed="rId6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2097173" descr=""/>
          <p:cNvPicPr/>
          <p:nvPr/>
        </p:nvPicPr>
        <p:blipFill>
          <a:blip r:embed="rId7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47" name="图片 2097174" descr=""/>
          <p:cNvPicPr/>
          <p:nvPr/>
        </p:nvPicPr>
        <p:blipFill>
          <a:blip r:embed="rId8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097175" descr=""/>
          <p:cNvPicPr/>
          <p:nvPr/>
        </p:nvPicPr>
        <p:blipFill>
          <a:blip r:embed="rId9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2097264" descr=""/>
          <p:cNvPicPr/>
          <p:nvPr/>
        </p:nvPicPr>
        <p:blipFill>
          <a:blip r:embed="rId10"/>
          <a:stretch/>
        </p:blipFill>
        <p:spPr>
          <a:xfrm>
            <a:off x="7399440" y="19692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2097265" descr=""/>
          <p:cNvPicPr/>
          <p:nvPr/>
        </p:nvPicPr>
        <p:blipFill>
          <a:blip r:embed="rId11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151" name="任意多边形 1048630"/>
          <p:cNvSpPr/>
          <p:nvPr/>
        </p:nvSpPr>
        <p:spPr>
          <a:xfrm>
            <a:off x="887400" y="146160"/>
            <a:ext cx="2268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048615"/>
          <p:cNvSpPr/>
          <p:nvPr/>
        </p:nvSpPr>
        <p:spPr>
          <a:xfrm>
            <a:off x="2316240" y="866880"/>
            <a:ext cx="49006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How are you?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你好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Fine, thank you.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很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谢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048616"/>
          <p:cNvSpPr/>
          <p:nvPr/>
        </p:nvSpPr>
        <p:spPr>
          <a:xfrm>
            <a:off x="1836720" y="1673280"/>
            <a:ext cx="7096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“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How are you?”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用于熟人之间有一段时间未见面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,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或是对方身体欠佳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,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或是较正式地向别人打招呼等场合。回答一般用“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Fine, thank you./Not bad./Very well.”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等。因此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,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同学们不必每次见面都问“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How are you?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”,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每天见面时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,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只要说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hello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或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hi</a:t>
            </a:r>
            <a:r>
              <a:rPr b="0" lang="zh-CN" sz="2100" spc="-1" strike="noStrike">
                <a:solidFill>
                  <a:srgbClr val="0000ff"/>
                </a:solidFill>
                <a:latin typeface="Arial"/>
                <a:ea typeface="楷体"/>
              </a:rPr>
              <a:t>就可以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50"/>
          <p:cNvGrpSpPr/>
          <p:nvPr/>
        </p:nvGrpSpPr>
        <p:grpSpPr>
          <a:xfrm>
            <a:off x="826920" y="1015920"/>
            <a:ext cx="1346400" cy="343080"/>
            <a:chOff x="826920" y="1015920"/>
            <a:chExt cx="1346400" cy="343080"/>
          </a:xfrm>
        </p:grpSpPr>
        <p:sp>
          <p:nvSpPr>
            <p:cNvPr id="1155" name="圆角矩形 1048619"/>
            <p:cNvSpPr/>
            <p:nvPr/>
          </p:nvSpPr>
          <p:spPr>
            <a:xfrm>
              <a:off x="826920" y="1018080"/>
              <a:ext cx="1333800" cy="33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矩形 1048620"/>
            <p:cNvSpPr/>
            <p:nvPr/>
          </p:nvSpPr>
          <p:spPr>
            <a:xfrm>
              <a:off x="894240" y="1015920"/>
              <a:ext cx="1279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组合 51"/>
          <p:cNvGrpSpPr/>
          <p:nvPr/>
        </p:nvGrpSpPr>
        <p:grpSpPr>
          <a:xfrm>
            <a:off x="895320" y="1835280"/>
            <a:ext cx="1136520" cy="434520"/>
            <a:chOff x="895320" y="1835280"/>
            <a:chExt cx="1136520" cy="434520"/>
          </a:xfrm>
        </p:grpSpPr>
        <p:sp>
          <p:nvSpPr>
            <p:cNvPr id="1158" name="矩形 1048621"/>
            <p:cNvSpPr/>
            <p:nvPr/>
          </p:nvSpPr>
          <p:spPr>
            <a:xfrm>
              <a:off x="1105920" y="1835280"/>
              <a:ext cx="9259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楷体"/>
                  <a:ea typeface="楷体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9" name="图片 2097242" descr=""/>
            <p:cNvPicPr/>
            <p:nvPr/>
          </p:nvPicPr>
          <p:blipFill>
            <a:blip r:embed="rId1"/>
            <a:stretch/>
          </p:blipFill>
          <p:spPr>
            <a:xfrm>
              <a:off x="895320" y="1915920"/>
              <a:ext cx="237240" cy="26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0" name="图片 2097243" descr=""/>
          <p:cNvPicPr/>
          <p:nvPr/>
        </p:nvPicPr>
        <p:blipFill>
          <a:blip r:embed="rId2"/>
          <a:stretch/>
        </p:blipFill>
        <p:spPr>
          <a:xfrm flipH="1">
            <a:off x="5263920" y="3978360"/>
            <a:ext cx="998280" cy="115560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2097172" descr=""/>
          <p:cNvPicPr/>
          <p:nvPr/>
        </p:nvPicPr>
        <p:blipFill>
          <a:blip r:embed="rId3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2097173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63" name="图片 2097174" descr=""/>
          <p:cNvPicPr/>
          <p:nvPr/>
        </p:nvPicPr>
        <p:blipFill>
          <a:blip r:embed="rId5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64" name="图片 2097175" descr=""/>
          <p:cNvPicPr/>
          <p:nvPr/>
        </p:nvPicPr>
        <p:blipFill>
          <a:blip r:embed="rId6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pic>
        <p:nvPicPr>
          <p:cNvPr id="1165" name="图片 2097264" descr=""/>
          <p:cNvPicPr/>
          <p:nvPr/>
        </p:nvPicPr>
        <p:blipFill>
          <a:blip r:embed="rId7"/>
          <a:stretch/>
        </p:blipFill>
        <p:spPr>
          <a:xfrm>
            <a:off x="7399440" y="19692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166" name="图片 2097265" descr=""/>
          <p:cNvPicPr/>
          <p:nvPr/>
        </p:nvPicPr>
        <p:blipFill>
          <a:blip r:embed="rId8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167" name="任意多边形 1048630"/>
          <p:cNvSpPr/>
          <p:nvPr/>
        </p:nvSpPr>
        <p:spPr>
          <a:xfrm>
            <a:off x="887400" y="146160"/>
            <a:ext cx="2268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2097331" descr=""/>
          <p:cNvPicPr/>
          <p:nvPr/>
        </p:nvPicPr>
        <p:blipFill>
          <a:blip r:embed="rId1"/>
          <a:stretch/>
        </p:blipFill>
        <p:spPr>
          <a:xfrm>
            <a:off x="7442280" y="141120"/>
            <a:ext cx="1427040" cy="648000"/>
          </a:xfrm>
          <a:prstGeom prst="rect">
            <a:avLst/>
          </a:prstGeom>
          <a:ln w="0">
            <a:noFill/>
          </a:ln>
        </p:spPr>
      </p:pic>
      <p:pic>
        <p:nvPicPr>
          <p:cNvPr id="1170" name="图片 2097332" descr=""/>
          <p:cNvPicPr/>
          <p:nvPr/>
        </p:nvPicPr>
        <p:blipFill>
          <a:blip r:embed="rId2"/>
          <a:stretch/>
        </p:blipFill>
        <p:spPr>
          <a:xfrm>
            <a:off x="306360" y="208080"/>
            <a:ext cx="539640" cy="514080"/>
          </a:xfrm>
          <a:prstGeom prst="rect">
            <a:avLst/>
          </a:prstGeom>
          <a:ln w="0">
            <a:noFill/>
          </a:ln>
        </p:spPr>
      </p:pic>
      <p:sp>
        <p:nvSpPr>
          <p:cNvPr id="1171" name="任意多边形 1048678"/>
          <p:cNvSpPr/>
          <p:nvPr/>
        </p:nvSpPr>
        <p:spPr>
          <a:xfrm>
            <a:off x="954000" y="212760"/>
            <a:ext cx="181296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2" descr="http://img2.3lian.com/2014/f6/134/d/81.jpg"/>
          <p:cNvPicPr/>
          <p:nvPr/>
        </p:nvPicPr>
        <p:blipFill>
          <a:blip r:embed="rId3"/>
          <a:stretch/>
        </p:blipFill>
        <p:spPr>
          <a:xfrm>
            <a:off x="779400" y="722160"/>
            <a:ext cx="7559640" cy="4179960"/>
          </a:xfrm>
          <a:prstGeom prst="rect">
            <a:avLst/>
          </a:prstGeom>
          <a:ln w="0">
            <a:noFill/>
          </a:ln>
        </p:spPr>
      </p:pic>
      <p:pic>
        <p:nvPicPr>
          <p:cNvPr id="1173" name="矩形 1" descr=""/>
          <p:cNvPicPr/>
          <p:nvPr/>
        </p:nvPicPr>
        <p:blipFill>
          <a:blip r:embed="rId4"/>
          <a:stretch/>
        </p:blipFill>
        <p:spPr>
          <a:xfrm>
            <a:off x="3368520" y="1542960"/>
            <a:ext cx="2430720" cy="598680"/>
          </a:xfrm>
          <a:prstGeom prst="rect">
            <a:avLst/>
          </a:prstGeom>
          <a:ln w="0">
            <a:noFill/>
          </a:ln>
        </p:spPr>
      </p:pic>
      <p:pic>
        <p:nvPicPr>
          <p:cNvPr id="1174" name="矩形 2" descr=""/>
          <p:cNvPicPr/>
          <p:nvPr/>
        </p:nvPicPr>
        <p:blipFill>
          <a:blip r:embed="rId5"/>
          <a:stretch/>
        </p:blipFill>
        <p:spPr>
          <a:xfrm>
            <a:off x="2054160" y="2664000"/>
            <a:ext cx="5013360" cy="50616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2097172" descr=""/>
          <p:cNvPicPr/>
          <p:nvPr/>
        </p:nvPicPr>
        <p:blipFill>
          <a:blip r:embed="rId6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2097173" descr=""/>
          <p:cNvPicPr/>
          <p:nvPr/>
        </p:nvPicPr>
        <p:blipFill>
          <a:blip r:embed="rId7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097174" descr=""/>
          <p:cNvPicPr/>
          <p:nvPr/>
        </p:nvPicPr>
        <p:blipFill>
          <a:blip r:embed="rId8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2097175" descr=""/>
          <p:cNvPicPr/>
          <p:nvPr/>
        </p:nvPicPr>
        <p:blipFill>
          <a:blip r:embed="rId9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图片 2097339" descr="ring"/>
          <p:cNvPicPr/>
          <p:nvPr/>
        </p:nvPicPr>
        <p:blipFill>
          <a:blip r:embed="rId1"/>
          <a:stretch/>
        </p:blipFill>
        <p:spPr>
          <a:xfrm>
            <a:off x="5346720" y="4092480"/>
            <a:ext cx="1008000" cy="9320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097340" descr=""/>
          <p:cNvPicPr/>
          <p:nvPr/>
        </p:nvPicPr>
        <p:blipFill>
          <a:blip r:embed="rId2"/>
          <a:stretch/>
        </p:blipFill>
        <p:spPr>
          <a:xfrm>
            <a:off x="7353360" y="14616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2097341" descr=""/>
          <p:cNvPicPr/>
          <p:nvPr/>
        </p:nvPicPr>
        <p:blipFill>
          <a:blip r:embed="rId3"/>
          <a:stretch/>
        </p:blipFill>
        <p:spPr>
          <a:xfrm>
            <a:off x="306360" y="14112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1182" name="任意多边形 1048681"/>
          <p:cNvSpPr/>
          <p:nvPr/>
        </p:nvSpPr>
        <p:spPr>
          <a:xfrm>
            <a:off x="954000" y="146160"/>
            <a:ext cx="1782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99"/>
          <p:cNvSpPr/>
          <p:nvPr/>
        </p:nvSpPr>
        <p:spPr>
          <a:xfrm>
            <a:off x="420840" y="1254240"/>
            <a:ext cx="8394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    )1. — Nice to meet you.    —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.  Goodbye.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. Nice to meet you, `too.  C. O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    )2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中国的国旗的颜色是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.red and yellow.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.red and blue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.green and whi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    )3. — I like white.      —___________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.OK.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.I'm fine, thank you.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.Me, to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    )4. — This is Mr Jake.       —___________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.What's your name?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B.Fine, thank you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.Nice to meet yo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图片 2097172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85" name="图片 2097173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86" name="图片 2097174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2097175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188" name="文本框 1"/>
          <p:cNvSpPr/>
          <p:nvPr/>
        </p:nvSpPr>
        <p:spPr>
          <a:xfrm>
            <a:off x="1343520" y="7938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2"/>
          <p:cNvSpPr/>
          <p:nvPr/>
        </p:nvSpPr>
        <p:spPr>
          <a:xfrm>
            <a:off x="580320" y="1254240"/>
            <a:ext cx="37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图片 2097350" descr=""/>
          <p:cNvPicPr/>
          <p:nvPr/>
        </p:nvPicPr>
        <p:blipFill>
          <a:blip r:embed="rId1"/>
          <a:stretch/>
        </p:blipFill>
        <p:spPr>
          <a:xfrm>
            <a:off x="7437600" y="174600"/>
            <a:ext cx="1425240" cy="6476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 2097351" descr=""/>
          <p:cNvPicPr/>
          <p:nvPr/>
        </p:nvPicPr>
        <p:blipFill>
          <a:blip r:embed="rId2"/>
          <a:stretch/>
        </p:blipFill>
        <p:spPr>
          <a:xfrm>
            <a:off x="26820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192" name="任意多边形 1048684"/>
          <p:cNvSpPr/>
          <p:nvPr/>
        </p:nvSpPr>
        <p:spPr>
          <a:xfrm>
            <a:off x="903240" y="174600"/>
            <a:ext cx="1782720" cy="4492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图片 2097356" descr="ring"/>
          <p:cNvPicPr/>
          <p:nvPr/>
        </p:nvPicPr>
        <p:blipFill>
          <a:blip r:embed="rId3"/>
          <a:stretch/>
        </p:blipFill>
        <p:spPr>
          <a:xfrm>
            <a:off x="7437600" y="3125880"/>
            <a:ext cx="1257120" cy="1257120"/>
          </a:xfrm>
          <a:prstGeom prst="rect">
            <a:avLst/>
          </a:prstGeom>
          <a:ln w="0">
            <a:noFill/>
          </a:ln>
        </p:spPr>
      </p:pic>
      <p:sp>
        <p:nvSpPr>
          <p:cNvPr id="1194" name="文本框 99"/>
          <p:cNvSpPr/>
          <p:nvPr/>
        </p:nvSpPr>
        <p:spPr>
          <a:xfrm>
            <a:off x="374760" y="1535040"/>
            <a:ext cx="60516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._________ name is Luc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What's ______________ nam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This ____________ my friend, Li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Nice ____________ meet you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What’s your __________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6.______________ afterno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1"/>
          <p:cNvSpPr/>
          <p:nvPr/>
        </p:nvSpPr>
        <p:spPr>
          <a:xfrm>
            <a:off x="2105640" y="8985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二、请将下列句子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图片 2097172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97" name="图片 2097173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98" name="图片 2097174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2097175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200" name="文本框 2"/>
          <p:cNvSpPr/>
          <p:nvPr/>
        </p:nvSpPr>
        <p:spPr>
          <a:xfrm>
            <a:off x="775440" y="1535040"/>
            <a:ext cx="23022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Go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2" descr="https://timgsa.baidu.com/timg?image&amp;quality=80&amp;size=b9999_10000&amp;sec=1521864692225&amp;di=ef91756a4a8ec482ceda8208eca01df6&amp;imgtype=0&amp;src=http%3A%2F%2Fphotocdn.sohu.com%2F20150501%2Fmp13276990_1430441802145_1_th.jpeg"/>
          <p:cNvPicPr/>
          <p:nvPr/>
        </p:nvPicPr>
        <p:blipFill>
          <a:blip r:embed="rId1"/>
          <a:stretch/>
        </p:blipFill>
        <p:spPr>
          <a:xfrm>
            <a:off x="2968560" y="3346560"/>
            <a:ext cx="2524320" cy="1677960"/>
          </a:xfrm>
          <a:prstGeom prst="rect">
            <a:avLst/>
          </a:prstGeom>
          <a:ln w="0">
            <a:noFill/>
          </a:ln>
        </p:spPr>
      </p:pic>
      <p:pic>
        <p:nvPicPr>
          <p:cNvPr id="1202" name="图片 2097358" descr=""/>
          <p:cNvPicPr/>
          <p:nvPr/>
        </p:nvPicPr>
        <p:blipFill>
          <a:blip r:embed="rId2"/>
          <a:stretch/>
        </p:blipFill>
        <p:spPr>
          <a:xfrm>
            <a:off x="7459560" y="141120"/>
            <a:ext cx="1427400" cy="648000"/>
          </a:xfrm>
          <a:prstGeom prst="rect">
            <a:avLst/>
          </a:prstGeom>
          <a:ln w="0">
            <a:noFill/>
          </a:ln>
        </p:spPr>
      </p:pic>
      <p:pic>
        <p:nvPicPr>
          <p:cNvPr id="1203" name="图片 2097359" descr=""/>
          <p:cNvPicPr/>
          <p:nvPr/>
        </p:nvPicPr>
        <p:blipFill>
          <a:blip r:embed="rId3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204" name="任意多边形 1048687"/>
          <p:cNvSpPr/>
          <p:nvPr/>
        </p:nvSpPr>
        <p:spPr>
          <a:xfrm>
            <a:off x="887400" y="146160"/>
            <a:ext cx="1782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1048688"/>
          <p:cNvSpPr/>
          <p:nvPr/>
        </p:nvSpPr>
        <p:spPr>
          <a:xfrm>
            <a:off x="374760" y="696960"/>
            <a:ext cx="7947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本课我们学习了以下知识，请同学们一定加强巩固，以便能和同学们进行灵活交流哦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Box 1048689"/>
          <p:cNvSpPr/>
          <p:nvPr/>
        </p:nvSpPr>
        <p:spPr>
          <a:xfrm>
            <a:off x="488880" y="1554120"/>
            <a:ext cx="78328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重点词汇：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how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怎样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如何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fine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身体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好的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很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flower 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花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look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重点句型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—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How are you?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"/>
              </a:rPr>
              <a:t>你好吗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  —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楷体"/>
              </a:rPr>
              <a:t>Fine, thank you.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"/>
              </a:rPr>
              <a:t>很好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"/>
              </a:rPr>
              <a:t>谢谢你。</a:t>
            </a: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图片 2097172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208" name="图片 2097173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209" name="图片 2097174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210" name="图片 2097175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图片 2097364" descr="homework2"/>
          <p:cNvPicPr/>
          <p:nvPr/>
        </p:nvPicPr>
        <p:blipFill>
          <a:blip r:embed="rId1"/>
          <a:stretch/>
        </p:blipFill>
        <p:spPr>
          <a:xfrm>
            <a:off x="220680" y="839880"/>
            <a:ext cx="8667720" cy="3343320"/>
          </a:xfrm>
          <a:prstGeom prst="rect">
            <a:avLst/>
          </a:prstGeom>
          <a:ln w="0">
            <a:noFill/>
          </a:ln>
        </p:spPr>
      </p:pic>
      <p:pic>
        <p:nvPicPr>
          <p:cNvPr id="1213" name="图片 2097365" descr=""/>
          <p:cNvPicPr/>
          <p:nvPr/>
        </p:nvPicPr>
        <p:blipFill>
          <a:blip r:embed="rId2"/>
          <a:stretch/>
        </p:blipFill>
        <p:spPr>
          <a:xfrm>
            <a:off x="7311960" y="146160"/>
            <a:ext cx="1425600" cy="649080"/>
          </a:xfrm>
          <a:prstGeom prst="rect">
            <a:avLst/>
          </a:prstGeom>
          <a:ln w="0">
            <a:noFill/>
          </a:ln>
        </p:spPr>
      </p:pic>
      <p:pic>
        <p:nvPicPr>
          <p:cNvPr id="1214" name="图片 2097366" descr=""/>
          <p:cNvPicPr/>
          <p:nvPr/>
        </p:nvPicPr>
        <p:blipFill>
          <a:blip r:embed="rId3"/>
          <a:stretch/>
        </p:blipFill>
        <p:spPr>
          <a:xfrm>
            <a:off x="306360" y="14112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1215" name="任意多边形 1048690"/>
          <p:cNvSpPr/>
          <p:nvPr/>
        </p:nvSpPr>
        <p:spPr>
          <a:xfrm>
            <a:off x="954000" y="146160"/>
            <a:ext cx="1782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图片 2097371" descr="homework"/>
          <p:cNvPicPr/>
          <p:nvPr/>
        </p:nvPicPr>
        <p:blipFill>
          <a:blip r:embed="rId4"/>
          <a:stretch/>
        </p:blipFill>
        <p:spPr>
          <a:xfrm>
            <a:off x="2700360" y="1058760"/>
            <a:ext cx="3027240" cy="776520"/>
          </a:xfrm>
          <a:prstGeom prst="rect">
            <a:avLst/>
          </a:prstGeom>
          <a:ln w="0">
            <a:noFill/>
          </a:ln>
        </p:spPr>
      </p:pic>
      <p:sp>
        <p:nvSpPr>
          <p:cNvPr id="1217" name="矩形 1"/>
          <p:cNvSpPr/>
          <p:nvPr/>
        </p:nvSpPr>
        <p:spPr>
          <a:xfrm>
            <a:off x="2256840" y="21891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Arial"/>
              </a:rPr>
              <a:t>给家长讲讲今天学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片 2097172" descr=""/>
          <p:cNvPicPr/>
          <p:nvPr/>
        </p:nvPicPr>
        <p:blipFill>
          <a:blip r:embed="rId5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219" name="图片 2097173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220" name="图片 2097174" descr=""/>
          <p:cNvPicPr/>
          <p:nvPr/>
        </p:nvPicPr>
        <p:blipFill>
          <a:blip r:embed="rId7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221" name="图片 2097175" descr=""/>
          <p:cNvPicPr/>
          <p:nvPr/>
        </p:nvPicPr>
        <p:blipFill>
          <a:blip r:embed="rId8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图片 2097372" descr=""/>
          <p:cNvPicPr/>
          <p:nvPr/>
        </p:nvPicPr>
        <p:blipFill>
          <a:blip r:embed="rId1"/>
          <a:srcRect l="0" t="0" r="72978" b="0"/>
          <a:stretch/>
        </p:blipFill>
        <p:spPr>
          <a:xfrm>
            <a:off x="5675400" y="4573440"/>
            <a:ext cx="1218960" cy="1157400"/>
          </a:xfrm>
          <a:prstGeom prst="rect">
            <a:avLst/>
          </a:prstGeom>
          <a:ln w="0">
            <a:noFill/>
          </a:ln>
        </p:spPr>
      </p:pic>
      <p:pic>
        <p:nvPicPr>
          <p:cNvPr id="1223" name="图片 2097373" descr=""/>
          <p:cNvPicPr/>
          <p:nvPr/>
        </p:nvPicPr>
        <p:blipFill>
          <a:blip r:embed="rId2"/>
          <a:srcRect l="0" t="0" r="72981" b="0"/>
          <a:stretch/>
        </p:blipFill>
        <p:spPr>
          <a:xfrm>
            <a:off x="1236600" y="4573440"/>
            <a:ext cx="949320" cy="900360"/>
          </a:xfrm>
          <a:prstGeom prst="rect">
            <a:avLst/>
          </a:prstGeom>
          <a:ln w="0">
            <a:noFill/>
          </a:ln>
        </p:spPr>
      </p:pic>
      <p:pic>
        <p:nvPicPr>
          <p:cNvPr id="1224" name="图片 2097374" descr=""/>
          <p:cNvPicPr/>
          <p:nvPr/>
        </p:nvPicPr>
        <p:blipFill>
          <a:blip r:embed="rId3"/>
          <a:stretch/>
        </p:blipFill>
        <p:spPr>
          <a:xfrm>
            <a:off x="552600" y="4648320"/>
            <a:ext cx="404640" cy="344520"/>
          </a:xfrm>
          <a:prstGeom prst="rect">
            <a:avLst/>
          </a:prstGeom>
          <a:ln w="0">
            <a:noFill/>
          </a:ln>
        </p:spPr>
      </p:pic>
      <p:pic>
        <p:nvPicPr>
          <p:cNvPr id="1225" name="图片 2097375" descr=""/>
          <p:cNvPicPr/>
          <p:nvPr/>
        </p:nvPicPr>
        <p:blipFill>
          <a:blip r:embed="rId4"/>
          <a:stretch/>
        </p:blipFill>
        <p:spPr>
          <a:xfrm>
            <a:off x="7042320" y="4761000"/>
            <a:ext cx="541080" cy="358560"/>
          </a:xfrm>
          <a:prstGeom prst="rect">
            <a:avLst/>
          </a:prstGeom>
          <a:ln w="0">
            <a:noFill/>
          </a:ln>
        </p:spPr>
      </p:pic>
      <p:sp>
        <p:nvSpPr>
          <p:cNvPr id="1226" name="矩形 1048694"/>
          <p:cNvSpPr/>
          <p:nvPr/>
        </p:nvSpPr>
        <p:spPr>
          <a:xfrm>
            <a:off x="2630520" y="1617840"/>
            <a:ext cx="40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图片 2097377" descr=""/>
          <p:cNvPicPr/>
          <p:nvPr/>
        </p:nvPicPr>
        <p:blipFill>
          <a:blip r:embed="rId5"/>
          <a:stretch/>
        </p:blipFill>
        <p:spPr>
          <a:xfrm>
            <a:off x="3135240" y="2182680"/>
            <a:ext cx="3146400" cy="46836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9"/>
          <p:cNvGrpSpPr/>
          <p:nvPr/>
        </p:nvGrpSpPr>
        <p:grpSpPr>
          <a:xfrm>
            <a:off x="7832880" y="3754440"/>
            <a:ext cx="834840" cy="1365120"/>
            <a:chOff x="7832880" y="3754440"/>
            <a:chExt cx="834840" cy="1365120"/>
          </a:xfrm>
        </p:grpSpPr>
        <p:pic>
          <p:nvPicPr>
            <p:cNvPr id="1229" name="图片 2097378" descr=""/>
            <p:cNvPicPr/>
            <p:nvPr/>
          </p:nvPicPr>
          <p:blipFill>
            <a:blip r:embed="rId6"/>
            <a:srcRect l="35498" t="0" r="32258" b="80045"/>
            <a:stretch/>
          </p:blipFill>
          <p:spPr>
            <a:xfrm>
              <a:off x="7832880" y="3754440"/>
              <a:ext cx="269640" cy="2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图片 2097379" descr=""/>
            <p:cNvPicPr/>
            <p:nvPr/>
          </p:nvPicPr>
          <p:blipFill>
            <a:blip r:embed="rId7"/>
            <a:stretch/>
          </p:blipFill>
          <p:spPr>
            <a:xfrm>
              <a:off x="7882920" y="3944880"/>
              <a:ext cx="784800" cy="11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1" name="图片 2097380" descr=""/>
          <p:cNvPicPr/>
          <p:nvPr/>
        </p:nvPicPr>
        <p:blipFill>
          <a:blip r:embed="rId8"/>
          <a:stretch/>
        </p:blipFill>
        <p:spPr>
          <a:xfrm>
            <a:off x="2187720" y="3973680"/>
            <a:ext cx="1023840" cy="114588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4" descr="music"/>
          <p:cNvPicPr/>
          <p:nvPr/>
        </p:nvPicPr>
        <p:blipFill>
          <a:blip r:embed="rId1"/>
          <a:stretch/>
        </p:blipFill>
        <p:spPr>
          <a:xfrm>
            <a:off x="231840" y="1049400"/>
            <a:ext cx="8450280" cy="4067280"/>
          </a:xfrm>
          <a:prstGeom prst="rect">
            <a:avLst/>
          </a:prstGeom>
          <a:ln w="0">
            <a:noFill/>
          </a:ln>
        </p:spPr>
      </p:pic>
      <p:pic>
        <p:nvPicPr>
          <p:cNvPr id="999" name="图片 2097170" descr=""/>
          <p:cNvPicPr/>
          <p:nvPr/>
        </p:nvPicPr>
        <p:blipFill>
          <a:blip r:embed="rId2"/>
          <a:stretch/>
        </p:blipFill>
        <p:spPr>
          <a:xfrm>
            <a:off x="7564320" y="146160"/>
            <a:ext cx="1427400" cy="649080"/>
          </a:xfrm>
          <a:prstGeom prst="rect">
            <a:avLst/>
          </a:prstGeom>
          <a:ln w="0">
            <a:noFill/>
          </a:ln>
        </p:spPr>
      </p:pic>
      <p:pic>
        <p:nvPicPr>
          <p:cNvPr id="1000" name="图片 2097171" descr=""/>
          <p:cNvPicPr/>
          <p:nvPr/>
        </p:nvPicPr>
        <p:blipFill>
          <a:blip r:embed="rId3"/>
          <a:stretch/>
        </p:blipFill>
        <p:spPr>
          <a:xfrm>
            <a:off x="35712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001" name="任意多边形 1048588"/>
          <p:cNvSpPr/>
          <p:nvPr/>
        </p:nvSpPr>
        <p:spPr>
          <a:xfrm>
            <a:off x="1004760" y="146160"/>
            <a:ext cx="176220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热身活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5"/>
          <p:cNvSpPr/>
          <p:nvPr/>
        </p:nvSpPr>
        <p:spPr>
          <a:xfrm>
            <a:off x="1736640" y="1542960"/>
            <a:ext cx="56707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lour so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100" spc="-1" strike="noStrike">
                <a:solidFill>
                  <a:srgbClr val="ff66ff"/>
                </a:solidFill>
                <a:latin typeface="Arial"/>
              </a:rPr>
              <a:t>pin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1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cc"/>
                </a:solidFill>
                <a:latin typeface="Arial"/>
              </a:rPr>
              <a:t>           </a:t>
            </a:r>
            <a:r>
              <a:rPr b="1" lang="en-US" sz="2100" spc="-1" strike="noStrike">
                <a:solidFill>
                  <a:srgbClr val="9900cc"/>
                </a:solidFill>
                <a:latin typeface="Arial"/>
              </a:rPr>
              <a:t>Pur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100" spc="-1" strike="noStrike">
                <a:solidFill>
                  <a:srgbClr val="ff9900"/>
                </a:solidFill>
                <a:latin typeface="Arial"/>
              </a:rPr>
              <a:t>orang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an sing a rainbow,sing a rainb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ng a rainbow n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矩形 1" descr=""/>
          <p:cNvPicPr/>
          <p:nvPr/>
        </p:nvPicPr>
        <p:blipFill>
          <a:blip r:embed="rId4"/>
          <a:stretch/>
        </p:blipFill>
        <p:spPr>
          <a:xfrm>
            <a:off x="714240" y="793800"/>
            <a:ext cx="2895840" cy="7840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6"/>
          <p:cNvGrpSpPr/>
          <p:nvPr/>
        </p:nvGrpSpPr>
        <p:grpSpPr>
          <a:xfrm>
            <a:off x="7262640" y="1087560"/>
            <a:ext cx="920880" cy="864720"/>
            <a:chOff x="7262640" y="1087560"/>
            <a:chExt cx="920880" cy="864720"/>
          </a:xfrm>
        </p:grpSpPr>
        <p:pic>
          <p:nvPicPr>
            <p:cNvPr id="1005" name="图片 3" descr="播放图标"/>
            <p:cNvPicPr/>
            <p:nvPr/>
          </p:nvPicPr>
          <p:blipFill>
            <a:blip r:embed="rId5"/>
            <a:stretch/>
          </p:blipFill>
          <p:spPr>
            <a:xfrm>
              <a:off x="7262640" y="1119600"/>
              <a:ext cx="84348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文本框 4" descr=""/>
            <p:cNvPicPr/>
            <p:nvPr/>
          </p:nvPicPr>
          <p:blipFill>
            <a:blip r:embed="rId6"/>
            <a:stretch/>
          </p:blipFill>
          <p:spPr>
            <a:xfrm>
              <a:off x="7347240" y="1087560"/>
              <a:ext cx="836280" cy="59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2097172" descr=""/>
          <p:cNvPicPr/>
          <p:nvPr/>
        </p:nvPicPr>
        <p:blipFill>
          <a:blip r:embed="rId7"/>
          <a:srcRect l="0" t="0" r="72976" b="0"/>
          <a:stretch/>
        </p:blipFill>
        <p:spPr>
          <a:xfrm>
            <a:off x="6757920" y="4487760"/>
            <a:ext cx="1217520" cy="115740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2097173" descr=""/>
          <p:cNvPicPr/>
          <p:nvPr/>
        </p:nvPicPr>
        <p:blipFill>
          <a:blip r:embed="rId8"/>
          <a:srcRect l="0" t="0" r="72978" b="0"/>
          <a:stretch/>
        </p:blipFill>
        <p:spPr>
          <a:xfrm>
            <a:off x="1119240" y="4487760"/>
            <a:ext cx="947520" cy="90036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2097174" descr=""/>
          <p:cNvPicPr/>
          <p:nvPr/>
        </p:nvPicPr>
        <p:blipFill>
          <a:blip r:embed="rId9"/>
          <a:stretch/>
        </p:blipFill>
        <p:spPr>
          <a:xfrm>
            <a:off x="714240" y="4667400"/>
            <a:ext cx="405000" cy="34416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2097175" descr=""/>
          <p:cNvPicPr/>
          <p:nvPr/>
        </p:nvPicPr>
        <p:blipFill>
          <a:blip r:embed="rId10"/>
          <a:stretch/>
        </p:blipFill>
        <p:spPr>
          <a:xfrm>
            <a:off x="8140680" y="4654440"/>
            <a:ext cx="541440" cy="35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2097170" descr=""/>
          <p:cNvPicPr/>
          <p:nvPr/>
        </p:nvPicPr>
        <p:blipFill>
          <a:blip r:embed="rId1"/>
          <a:stretch/>
        </p:blipFill>
        <p:spPr>
          <a:xfrm>
            <a:off x="7424640" y="146160"/>
            <a:ext cx="1425600" cy="64908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2097171" descr=""/>
          <p:cNvPicPr/>
          <p:nvPr/>
        </p:nvPicPr>
        <p:blipFill>
          <a:blip r:embed="rId2"/>
          <a:stretch/>
        </p:blipFill>
        <p:spPr>
          <a:xfrm>
            <a:off x="297000" y="14112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1013" name="任意多边形 1048588"/>
          <p:cNvSpPr/>
          <p:nvPr/>
        </p:nvSpPr>
        <p:spPr>
          <a:xfrm>
            <a:off x="944640" y="146160"/>
            <a:ext cx="176220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2" descr="https://timgsa.baidu.com/timg?image&amp;quality=80&amp;size=b9999_10000&amp;sec=1521863043568&amp;di=663ad3f2295d4df6f5964fd8942bae53&amp;imgtype=0&amp;src=http%3A%2F%2Fimgsrc.baidu.com%2Fimage%2Fc0%253Dshijue1%252C0%252C0%252C294%252C40%2Fsign%3D8f21ce3f03f79052fb124f7d649abdbf%2F9922720e0cf3d7cad44e825af81fbe096b63a966.jpg"/>
          <p:cNvPicPr/>
          <p:nvPr/>
        </p:nvPicPr>
        <p:blipFill>
          <a:blip r:embed="rId3"/>
          <a:srcRect l="0" t="34949" r="0" b="2410"/>
          <a:stretch/>
        </p:blipFill>
        <p:spPr>
          <a:xfrm>
            <a:off x="1731960" y="2679840"/>
            <a:ext cx="3205080" cy="192060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16"/>
          <p:cNvGrpSpPr/>
          <p:nvPr/>
        </p:nvGrpSpPr>
        <p:grpSpPr>
          <a:xfrm>
            <a:off x="1517760" y="965160"/>
            <a:ext cx="3986280" cy="1285920"/>
            <a:chOff x="1517760" y="965160"/>
            <a:chExt cx="3986280" cy="1285920"/>
          </a:xfrm>
        </p:grpSpPr>
        <p:sp>
          <p:nvSpPr>
            <p:cNvPr id="1016" name="云形标注 14"/>
            <p:cNvSpPr/>
            <p:nvPr/>
          </p:nvSpPr>
          <p:spPr>
            <a:xfrm>
              <a:off x="1517760" y="965160"/>
              <a:ext cx="3643560" cy="1285920"/>
            </a:xfrm>
            <a:prstGeom prst="cloudCallout">
              <a:avLst>
                <a:gd name="adj1" fmla="val -30009"/>
                <a:gd name="adj2" fmla="val 76476"/>
              </a:avLst>
            </a:prstGeom>
            <a:solidFill>
              <a:srgbClr val="e6b9b8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Box 1048589"/>
            <p:cNvSpPr/>
            <p:nvPr/>
          </p:nvSpPr>
          <p:spPr>
            <a:xfrm>
              <a:off x="1571040" y="1286640"/>
              <a:ext cx="39330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ow are you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7"/>
          <p:cNvGrpSpPr/>
          <p:nvPr/>
        </p:nvGrpSpPr>
        <p:grpSpPr>
          <a:xfrm>
            <a:off x="5375160" y="1608120"/>
            <a:ext cx="3694320" cy="1125720"/>
            <a:chOff x="5375160" y="1608120"/>
            <a:chExt cx="3694320" cy="1125720"/>
          </a:xfrm>
        </p:grpSpPr>
        <p:sp>
          <p:nvSpPr>
            <p:cNvPr id="1019" name="云形标注 15"/>
            <p:cNvSpPr/>
            <p:nvPr/>
          </p:nvSpPr>
          <p:spPr>
            <a:xfrm>
              <a:off x="5375160" y="1608120"/>
              <a:ext cx="2626200" cy="1125720"/>
            </a:xfrm>
            <a:prstGeom prst="cloudCallout">
              <a:avLst>
                <a:gd name="adj1" fmla="val -63620"/>
                <a:gd name="adj2" fmla="val 69856"/>
              </a:avLst>
            </a:prstGeom>
            <a:solidFill>
              <a:srgbClr val="00b050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Box 1048590"/>
            <p:cNvSpPr/>
            <p:nvPr/>
          </p:nvSpPr>
          <p:spPr>
            <a:xfrm>
              <a:off x="5643000" y="1929600"/>
              <a:ext cx="34264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I'm fine, thanks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1" name="图片 1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3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4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2097194" descr=""/>
          <p:cNvPicPr/>
          <p:nvPr/>
        </p:nvPicPr>
        <p:blipFill>
          <a:blip r:embed="rId1"/>
          <a:stretch/>
        </p:blipFill>
        <p:spPr>
          <a:xfrm>
            <a:off x="155520" y="84240"/>
            <a:ext cx="539640" cy="5140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2097195" descr=""/>
          <p:cNvPicPr/>
          <p:nvPr/>
        </p:nvPicPr>
        <p:blipFill>
          <a:blip r:embed="rId2"/>
          <a:stretch/>
        </p:blipFill>
        <p:spPr>
          <a:xfrm>
            <a:off x="7299360" y="125280"/>
            <a:ext cx="1425600" cy="648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097196" descr=""/>
          <p:cNvPicPr/>
          <p:nvPr/>
        </p:nvPicPr>
        <p:blipFill>
          <a:blip r:embed="rId3"/>
          <a:srcRect l="0" t="0" r="72978" b="0"/>
          <a:stretch/>
        </p:blipFill>
        <p:spPr>
          <a:xfrm>
            <a:off x="6080040" y="4532400"/>
            <a:ext cx="1219320" cy="11570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097197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68360" y="4487760"/>
            <a:ext cx="947520" cy="90036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097198" descr=""/>
          <p:cNvPicPr/>
          <p:nvPr/>
        </p:nvPicPr>
        <p:blipFill>
          <a:blip r:embed="rId5"/>
          <a:stretch/>
        </p:blipFill>
        <p:spPr>
          <a:xfrm>
            <a:off x="60480" y="4608360"/>
            <a:ext cx="404640" cy="3463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2097199" descr=""/>
          <p:cNvPicPr/>
          <p:nvPr/>
        </p:nvPicPr>
        <p:blipFill>
          <a:blip r:embed="rId6"/>
          <a:stretch/>
        </p:blipFill>
        <p:spPr>
          <a:xfrm>
            <a:off x="8010360" y="4508640"/>
            <a:ext cx="541440" cy="3585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097200" descr=""/>
          <p:cNvPicPr/>
          <p:nvPr/>
        </p:nvPicPr>
        <p:blipFill>
          <a:blip r:embed="rId7"/>
          <a:stretch/>
        </p:blipFill>
        <p:spPr>
          <a:xfrm>
            <a:off x="5076720" y="987480"/>
            <a:ext cx="3888000" cy="31636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2097201" descr=""/>
          <p:cNvPicPr/>
          <p:nvPr/>
        </p:nvPicPr>
        <p:blipFill>
          <a:blip r:embed="rId8"/>
          <a:stretch/>
        </p:blipFill>
        <p:spPr>
          <a:xfrm rot="7136400">
            <a:off x="1633320" y="306684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2097202" descr=""/>
          <p:cNvPicPr/>
          <p:nvPr/>
        </p:nvPicPr>
        <p:blipFill>
          <a:blip r:embed="rId9"/>
          <a:stretch/>
        </p:blipFill>
        <p:spPr>
          <a:xfrm flipH="1" rot="20986800">
            <a:off x="807840" y="2311560"/>
            <a:ext cx="1320480" cy="1387440"/>
          </a:xfrm>
          <a:prstGeom prst="rect">
            <a:avLst/>
          </a:prstGeom>
          <a:ln w="0">
            <a:noFill/>
          </a:ln>
        </p:spPr>
      </p:pic>
      <p:sp>
        <p:nvSpPr>
          <p:cNvPr id="1035" name="云形标注 1048600"/>
          <p:cNvSpPr/>
          <p:nvPr/>
        </p:nvSpPr>
        <p:spPr>
          <a:xfrm>
            <a:off x="1814400" y="903240"/>
            <a:ext cx="3430800" cy="1109880"/>
          </a:xfrm>
          <a:prstGeom prst="cloudCallout">
            <a:avLst>
              <a:gd name="adj1" fmla="val -44935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048601"/>
          <p:cNvSpPr/>
          <p:nvPr/>
        </p:nvSpPr>
        <p:spPr>
          <a:xfrm>
            <a:off x="2050920" y="987480"/>
            <a:ext cx="307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点击“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Story time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，跟我一起学朗读技巧吧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048602"/>
          <p:cNvSpPr/>
          <p:nvPr/>
        </p:nvSpPr>
        <p:spPr>
          <a:xfrm>
            <a:off x="5384880" y="2355840"/>
            <a:ext cx="27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"/>
                <a:ea typeface="楷体"/>
              </a:rPr>
              <a:t>Story ti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任意多边形 1048603"/>
          <p:cNvSpPr/>
          <p:nvPr/>
        </p:nvSpPr>
        <p:spPr>
          <a:xfrm>
            <a:off x="770040" y="125280"/>
            <a:ext cx="1763640" cy="4492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2097221" descr=""/>
          <p:cNvPicPr/>
          <p:nvPr/>
        </p:nvPicPr>
        <p:blipFill>
          <a:blip r:embed="rId1"/>
          <a:stretch/>
        </p:blipFill>
        <p:spPr>
          <a:xfrm>
            <a:off x="7337520" y="141120"/>
            <a:ext cx="1425600" cy="64800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097222" descr=""/>
          <p:cNvPicPr/>
          <p:nvPr/>
        </p:nvPicPr>
        <p:blipFill>
          <a:blip r:embed="rId2"/>
          <a:stretch/>
        </p:blipFill>
        <p:spPr>
          <a:xfrm>
            <a:off x="306360" y="14112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1041" name="任意多边形 1048611"/>
          <p:cNvSpPr/>
          <p:nvPr/>
        </p:nvSpPr>
        <p:spPr>
          <a:xfrm>
            <a:off x="954000" y="141120"/>
            <a:ext cx="1757520" cy="44784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048612"/>
          <p:cNvSpPr/>
          <p:nvPr/>
        </p:nvSpPr>
        <p:spPr>
          <a:xfrm>
            <a:off x="2735280" y="3166920"/>
            <a:ext cx="591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3"/>
          <a:stretch/>
        </p:blipFill>
        <p:spPr>
          <a:xfrm>
            <a:off x="846000" y="789120"/>
            <a:ext cx="6645240" cy="37195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097172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2097173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097174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2097175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048" name="文本框 2"/>
          <p:cNvSpPr/>
          <p:nvPr/>
        </p:nvSpPr>
        <p:spPr>
          <a:xfrm>
            <a:off x="7585200" y="1511280"/>
            <a:ext cx="137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子普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早上好，祖姆。祖姆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早上好，子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你好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子普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我很好，谢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2. 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祖姆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哇！花朵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2097221" descr=""/>
          <p:cNvPicPr/>
          <p:nvPr/>
        </p:nvPicPr>
        <p:blipFill>
          <a:blip r:embed="rId1"/>
          <a:stretch/>
        </p:blipFill>
        <p:spPr>
          <a:xfrm>
            <a:off x="7337520" y="146160"/>
            <a:ext cx="1425600" cy="6490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2097222" descr=""/>
          <p:cNvPicPr/>
          <p:nvPr/>
        </p:nvPicPr>
        <p:blipFill>
          <a:blip r:embed="rId2"/>
          <a:stretch/>
        </p:blipFill>
        <p:spPr>
          <a:xfrm>
            <a:off x="306360" y="14112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1051" name="任意多边形 1048611"/>
          <p:cNvSpPr/>
          <p:nvPr/>
        </p:nvSpPr>
        <p:spPr>
          <a:xfrm>
            <a:off x="954000" y="146160"/>
            <a:ext cx="179568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048612"/>
          <p:cNvSpPr/>
          <p:nvPr/>
        </p:nvSpPr>
        <p:spPr>
          <a:xfrm>
            <a:off x="2735280" y="3166920"/>
            <a:ext cx="591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" descr=""/>
          <p:cNvPicPr/>
          <p:nvPr/>
        </p:nvPicPr>
        <p:blipFill>
          <a:blip r:embed="rId3"/>
          <a:stretch/>
        </p:blipFill>
        <p:spPr>
          <a:xfrm>
            <a:off x="614520" y="752400"/>
            <a:ext cx="6480000" cy="3783240"/>
          </a:xfrm>
          <a:prstGeom prst="rect">
            <a:avLst/>
          </a:prstGeom>
          <a:ln w="0">
            <a:noFill/>
          </a:ln>
        </p:spPr>
      </p:pic>
      <p:sp>
        <p:nvSpPr>
          <p:cNvPr id="1054" name="文本框 99"/>
          <p:cNvSpPr/>
          <p:nvPr/>
        </p:nvSpPr>
        <p:spPr>
          <a:xfrm>
            <a:off x="7147080" y="1495440"/>
            <a:ext cx="180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祖姆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一朵红色的花。一朵黄色的花。一朵蓝色的花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5.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祖姆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子普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看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6.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子普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祖姆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看</a:t>
            </a:r>
            <a:r>
              <a:rPr b="0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图片 2097172" descr=""/>
          <p:cNvPicPr/>
          <p:nvPr/>
        </p:nvPicPr>
        <p:blipFill>
          <a:blip r:embed="rId4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097173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097174" descr=""/>
          <p:cNvPicPr/>
          <p:nvPr/>
        </p:nvPicPr>
        <p:blipFill>
          <a:blip r:embed="rId6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2097175" descr=""/>
          <p:cNvPicPr/>
          <p:nvPr/>
        </p:nvPicPr>
        <p:blipFill>
          <a:blip r:embed="rId7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2097264" descr=""/>
          <p:cNvPicPr/>
          <p:nvPr/>
        </p:nvPicPr>
        <p:blipFill>
          <a:blip r:embed="rId1"/>
          <a:stretch/>
        </p:blipFill>
        <p:spPr>
          <a:xfrm>
            <a:off x="7399440" y="19692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097265" descr=""/>
          <p:cNvPicPr/>
          <p:nvPr/>
        </p:nvPicPr>
        <p:blipFill>
          <a:blip r:embed="rId2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062" name="矩形 1048628"/>
          <p:cNvSpPr/>
          <p:nvPr/>
        </p:nvSpPr>
        <p:spPr>
          <a:xfrm>
            <a:off x="2422440" y="888840"/>
            <a:ext cx="452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ow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怎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如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048629"/>
          <p:cNvSpPr/>
          <p:nvPr/>
        </p:nvSpPr>
        <p:spPr>
          <a:xfrm>
            <a:off x="2189160" y="1928880"/>
            <a:ext cx="3640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How are you?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你好吗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任意多边形 1048630"/>
          <p:cNvSpPr/>
          <p:nvPr/>
        </p:nvSpPr>
        <p:spPr>
          <a:xfrm>
            <a:off x="887400" y="146160"/>
            <a:ext cx="2268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组合 58"/>
          <p:cNvGrpSpPr/>
          <p:nvPr/>
        </p:nvGrpSpPr>
        <p:grpSpPr>
          <a:xfrm>
            <a:off x="984240" y="942840"/>
            <a:ext cx="1347840" cy="343080"/>
            <a:chOff x="984240" y="942840"/>
            <a:chExt cx="1347840" cy="343080"/>
          </a:xfrm>
        </p:grpSpPr>
        <p:sp>
          <p:nvSpPr>
            <p:cNvPr id="1066" name="圆角矩形 1048631"/>
            <p:cNvSpPr/>
            <p:nvPr/>
          </p:nvSpPr>
          <p:spPr>
            <a:xfrm>
              <a:off x="984240" y="945000"/>
              <a:ext cx="1335240" cy="33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1048632"/>
            <p:cNvSpPr/>
            <p:nvPr/>
          </p:nvSpPr>
          <p:spPr>
            <a:xfrm>
              <a:off x="1051560" y="942840"/>
              <a:ext cx="1280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组合 59"/>
          <p:cNvGrpSpPr/>
          <p:nvPr/>
        </p:nvGrpSpPr>
        <p:grpSpPr>
          <a:xfrm>
            <a:off x="1109520" y="1932120"/>
            <a:ext cx="1360800" cy="388800"/>
            <a:chOff x="1109520" y="1932120"/>
            <a:chExt cx="1360800" cy="388800"/>
          </a:xfrm>
        </p:grpSpPr>
        <p:sp>
          <p:nvSpPr>
            <p:cNvPr id="1069" name="矩形 1048633"/>
            <p:cNvSpPr/>
            <p:nvPr/>
          </p:nvSpPr>
          <p:spPr>
            <a:xfrm>
              <a:off x="1320480" y="1932120"/>
              <a:ext cx="1149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图片 2097270" descr=""/>
            <p:cNvPicPr/>
            <p:nvPr/>
          </p:nvPicPr>
          <p:blipFill>
            <a:blip r:embed="rId3"/>
            <a:stretch/>
          </p:blipFill>
          <p:spPr>
            <a:xfrm>
              <a:off x="1109520" y="2012400"/>
              <a:ext cx="237600" cy="26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1" name="图片 2097271" descr=""/>
          <p:cNvPicPr/>
          <p:nvPr/>
        </p:nvPicPr>
        <p:blipFill>
          <a:blip r:embed="rId4"/>
          <a:stretch/>
        </p:blipFill>
        <p:spPr>
          <a:xfrm flipH="1">
            <a:off x="7084800" y="2365200"/>
            <a:ext cx="998280" cy="115596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1048634"/>
          <p:cNvSpPr/>
          <p:nvPr/>
        </p:nvSpPr>
        <p:spPr>
          <a:xfrm>
            <a:off x="4153320" y="2639880"/>
            <a:ext cx="426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本句中用来询问身体健康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组合 60"/>
          <p:cNvGrpSpPr/>
          <p:nvPr/>
        </p:nvGrpSpPr>
        <p:grpSpPr>
          <a:xfrm>
            <a:off x="1123920" y="2664000"/>
            <a:ext cx="1508040" cy="388800"/>
            <a:chOff x="1123920" y="2664000"/>
            <a:chExt cx="1508040" cy="388800"/>
          </a:xfrm>
        </p:grpSpPr>
        <p:sp>
          <p:nvSpPr>
            <p:cNvPr id="1074" name="矩形 1048635"/>
            <p:cNvSpPr/>
            <p:nvPr/>
          </p:nvSpPr>
          <p:spPr>
            <a:xfrm>
              <a:off x="1346760" y="2664000"/>
              <a:ext cx="1285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5" name="图片 2097272" descr=""/>
            <p:cNvPicPr/>
            <p:nvPr/>
          </p:nvPicPr>
          <p:blipFill>
            <a:blip r:embed="rId5"/>
            <a:stretch/>
          </p:blipFill>
          <p:spPr>
            <a:xfrm>
              <a:off x="1123920" y="2724840"/>
              <a:ext cx="252000" cy="26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6" name="图片 1" descr="u=2502703197,2196863813&amp;fm=27&amp;gp=0[1]"/>
          <p:cNvPicPr/>
          <p:nvPr/>
        </p:nvPicPr>
        <p:blipFill>
          <a:blip r:embed="rId6"/>
          <a:stretch/>
        </p:blipFill>
        <p:spPr>
          <a:xfrm>
            <a:off x="2319480" y="3430440"/>
            <a:ext cx="2373120" cy="159552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097172" descr=""/>
          <p:cNvPicPr/>
          <p:nvPr/>
        </p:nvPicPr>
        <p:blipFill>
          <a:blip r:embed="rId7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2097173" descr=""/>
          <p:cNvPicPr/>
          <p:nvPr/>
        </p:nvPicPr>
        <p:blipFill>
          <a:blip r:embed="rId8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2097174" descr=""/>
          <p:cNvPicPr/>
          <p:nvPr/>
        </p:nvPicPr>
        <p:blipFill>
          <a:blip r:embed="rId9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2097175" descr=""/>
          <p:cNvPicPr/>
          <p:nvPr/>
        </p:nvPicPr>
        <p:blipFill>
          <a:blip r:embed="rId10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63"/>
          <p:cNvGrpSpPr/>
          <p:nvPr/>
        </p:nvGrpSpPr>
        <p:grpSpPr>
          <a:xfrm>
            <a:off x="1125360" y="1050840"/>
            <a:ext cx="1347840" cy="343080"/>
            <a:chOff x="1125360" y="1050840"/>
            <a:chExt cx="1347840" cy="343080"/>
          </a:xfrm>
        </p:grpSpPr>
        <p:sp>
          <p:nvSpPr>
            <p:cNvPr id="1082" name="圆角矩形 1048637"/>
            <p:cNvSpPr/>
            <p:nvPr/>
          </p:nvSpPr>
          <p:spPr>
            <a:xfrm>
              <a:off x="1125360" y="1053000"/>
              <a:ext cx="1335240" cy="33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矩形 1048638"/>
            <p:cNvSpPr/>
            <p:nvPr/>
          </p:nvSpPr>
          <p:spPr>
            <a:xfrm>
              <a:off x="1192680" y="1050840"/>
              <a:ext cx="1280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TextBox 1048639"/>
          <p:cNvSpPr/>
          <p:nvPr/>
        </p:nvSpPr>
        <p:spPr>
          <a:xfrm>
            <a:off x="2736720" y="946080"/>
            <a:ext cx="4819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ine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身体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好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很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048640"/>
          <p:cNvSpPr/>
          <p:nvPr/>
        </p:nvSpPr>
        <p:spPr>
          <a:xfrm>
            <a:off x="804960" y="173340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1048641"/>
          <p:cNvSpPr/>
          <p:nvPr/>
        </p:nvSpPr>
        <p:spPr>
          <a:xfrm>
            <a:off x="2521080" y="1457280"/>
            <a:ext cx="4294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5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m fine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很好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谢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64"/>
          <p:cNvGrpSpPr/>
          <p:nvPr/>
        </p:nvGrpSpPr>
        <p:grpSpPr>
          <a:xfrm>
            <a:off x="1171440" y="1765440"/>
            <a:ext cx="1136880" cy="434520"/>
            <a:chOff x="1171440" y="1765440"/>
            <a:chExt cx="1136880" cy="434520"/>
          </a:xfrm>
        </p:grpSpPr>
        <p:sp>
          <p:nvSpPr>
            <p:cNvPr id="1088" name="矩形 1048642"/>
            <p:cNvSpPr/>
            <p:nvPr/>
          </p:nvSpPr>
          <p:spPr>
            <a:xfrm>
              <a:off x="1382040" y="1765440"/>
              <a:ext cx="926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图片 2097282" descr=""/>
            <p:cNvPicPr/>
            <p:nvPr/>
          </p:nvPicPr>
          <p:blipFill>
            <a:blip r:embed="rId1"/>
            <a:stretch/>
          </p:blipFill>
          <p:spPr>
            <a:xfrm>
              <a:off x="1171440" y="1846080"/>
              <a:ext cx="23760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组合 77"/>
          <p:cNvGrpSpPr/>
          <p:nvPr/>
        </p:nvGrpSpPr>
        <p:grpSpPr>
          <a:xfrm>
            <a:off x="1262160" y="2784600"/>
            <a:ext cx="1241280" cy="1662120"/>
            <a:chOff x="1262160" y="2784600"/>
            <a:chExt cx="1241280" cy="1662120"/>
          </a:xfrm>
        </p:grpSpPr>
        <p:pic>
          <p:nvPicPr>
            <p:cNvPr id="1091" name="图片 2097310" descr="연필"/>
            <p:cNvPicPr/>
            <p:nvPr/>
          </p:nvPicPr>
          <p:blipFill>
            <a:blip r:embed="rId2"/>
            <a:stretch/>
          </p:blipFill>
          <p:spPr>
            <a:xfrm>
              <a:off x="1611360" y="2784600"/>
              <a:ext cx="37764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图片 2097311" descr="꽃"/>
            <p:cNvPicPr/>
            <p:nvPr/>
          </p:nvPicPr>
          <p:blipFill>
            <a:blip r:embed="rId3"/>
            <a:stretch/>
          </p:blipFill>
          <p:spPr>
            <a:xfrm>
              <a:off x="1262160" y="3244320"/>
              <a:ext cx="1241280" cy="120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3" name="图片 1" descr="u=2002365850,2166679497&amp;fm=27&amp;gp=0[1]"/>
          <p:cNvPicPr/>
          <p:nvPr/>
        </p:nvPicPr>
        <p:blipFill>
          <a:blip r:embed="rId4"/>
          <a:stretch/>
        </p:blipFill>
        <p:spPr>
          <a:xfrm>
            <a:off x="2984400" y="284472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2097271" descr=""/>
          <p:cNvPicPr/>
          <p:nvPr/>
        </p:nvPicPr>
        <p:blipFill>
          <a:blip r:embed="rId5"/>
          <a:stretch/>
        </p:blipFill>
        <p:spPr>
          <a:xfrm flipH="1">
            <a:off x="6815160" y="3159000"/>
            <a:ext cx="998640" cy="115596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2097172" descr=""/>
          <p:cNvPicPr/>
          <p:nvPr/>
        </p:nvPicPr>
        <p:blipFill>
          <a:blip r:embed="rId6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2097173" descr=""/>
          <p:cNvPicPr/>
          <p:nvPr/>
        </p:nvPicPr>
        <p:blipFill>
          <a:blip r:embed="rId7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2097174" descr=""/>
          <p:cNvPicPr/>
          <p:nvPr/>
        </p:nvPicPr>
        <p:blipFill>
          <a:blip r:embed="rId8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2097175" descr=""/>
          <p:cNvPicPr/>
          <p:nvPr/>
        </p:nvPicPr>
        <p:blipFill>
          <a:blip r:embed="rId9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2097264" descr=""/>
          <p:cNvPicPr/>
          <p:nvPr/>
        </p:nvPicPr>
        <p:blipFill>
          <a:blip r:embed="rId10"/>
          <a:stretch/>
        </p:blipFill>
        <p:spPr>
          <a:xfrm>
            <a:off x="7399440" y="19692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2097265" descr=""/>
          <p:cNvPicPr/>
          <p:nvPr/>
        </p:nvPicPr>
        <p:blipFill>
          <a:blip r:embed="rId11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101" name="任意多边形 1048630"/>
          <p:cNvSpPr/>
          <p:nvPr/>
        </p:nvSpPr>
        <p:spPr>
          <a:xfrm>
            <a:off x="887400" y="146160"/>
            <a:ext cx="2268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矩形 1048646"/>
          <p:cNvSpPr/>
          <p:nvPr/>
        </p:nvSpPr>
        <p:spPr>
          <a:xfrm>
            <a:off x="1814400" y="681120"/>
            <a:ext cx="5268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1048647"/>
          <p:cNvSpPr/>
          <p:nvPr/>
        </p:nvSpPr>
        <p:spPr>
          <a:xfrm>
            <a:off x="1762200" y="1600200"/>
            <a:ext cx="5767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  <a:ea typeface="楷体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68"/>
          <p:cNvGrpSpPr/>
          <p:nvPr/>
        </p:nvGrpSpPr>
        <p:grpSpPr>
          <a:xfrm>
            <a:off x="922320" y="923760"/>
            <a:ext cx="1346040" cy="343080"/>
            <a:chOff x="922320" y="923760"/>
            <a:chExt cx="1346040" cy="343080"/>
          </a:xfrm>
        </p:grpSpPr>
        <p:sp>
          <p:nvSpPr>
            <p:cNvPr id="1105" name="圆角矩形 1048648"/>
            <p:cNvSpPr/>
            <p:nvPr/>
          </p:nvSpPr>
          <p:spPr>
            <a:xfrm>
              <a:off x="922320" y="925920"/>
              <a:ext cx="1333440" cy="33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1048649"/>
            <p:cNvSpPr/>
            <p:nvPr/>
          </p:nvSpPr>
          <p:spPr>
            <a:xfrm>
              <a:off x="989640" y="923760"/>
              <a:ext cx="1278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Box 1048650"/>
          <p:cNvSpPr/>
          <p:nvPr/>
        </p:nvSpPr>
        <p:spPr>
          <a:xfrm>
            <a:off x="2322360" y="871560"/>
            <a:ext cx="49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flower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组合 69"/>
          <p:cNvGrpSpPr/>
          <p:nvPr/>
        </p:nvGrpSpPr>
        <p:grpSpPr>
          <a:xfrm>
            <a:off x="907920" y="1500120"/>
            <a:ext cx="1359000" cy="434520"/>
            <a:chOff x="907920" y="1500120"/>
            <a:chExt cx="1359000" cy="434520"/>
          </a:xfrm>
        </p:grpSpPr>
        <p:sp>
          <p:nvSpPr>
            <p:cNvPr id="1109" name="矩形 1048651"/>
            <p:cNvSpPr/>
            <p:nvPr/>
          </p:nvSpPr>
          <p:spPr>
            <a:xfrm>
              <a:off x="1118520" y="1500120"/>
              <a:ext cx="1148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2097294" descr=""/>
            <p:cNvPicPr/>
            <p:nvPr/>
          </p:nvPicPr>
          <p:blipFill>
            <a:blip r:embed="rId1"/>
            <a:stretch/>
          </p:blipFill>
          <p:spPr>
            <a:xfrm>
              <a:off x="907920" y="1580760"/>
              <a:ext cx="237240" cy="2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TextBox 1048652"/>
          <p:cNvSpPr/>
          <p:nvPr/>
        </p:nvSpPr>
        <p:spPr>
          <a:xfrm>
            <a:off x="1746360" y="1500120"/>
            <a:ext cx="5629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ke flower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我喜欢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70"/>
          <p:cNvGrpSpPr/>
          <p:nvPr/>
        </p:nvGrpSpPr>
        <p:grpSpPr>
          <a:xfrm>
            <a:off x="855720" y="2181240"/>
            <a:ext cx="1728720" cy="434520"/>
            <a:chOff x="855720" y="2181240"/>
            <a:chExt cx="1728720" cy="434520"/>
          </a:xfrm>
        </p:grpSpPr>
        <p:sp>
          <p:nvSpPr>
            <p:cNvPr id="1113" name="矩形 1048653"/>
            <p:cNvSpPr/>
            <p:nvPr/>
          </p:nvSpPr>
          <p:spPr>
            <a:xfrm>
              <a:off x="1176120" y="2181240"/>
              <a:ext cx="1408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形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4" name="图片 2097295" descr=""/>
            <p:cNvPicPr/>
            <p:nvPr/>
          </p:nvPicPr>
          <p:blipFill>
            <a:blip r:embed="rId2"/>
            <a:stretch/>
          </p:blipFill>
          <p:spPr>
            <a:xfrm>
              <a:off x="855720" y="2262240"/>
              <a:ext cx="36108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5" name="TextBox 1048654"/>
          <p:cNvSpPr/>
          <p:nvPr/>
        </p:nvSpPr>
        <p:spPr>
          <a:xfrm>
            <a:off x="2735280" y="2158920"/>
            <a:ext cx="1623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图片 2097296" descr=""/>
          <p:cNvPicPr/>
          <p:nvPr/>
        </p:nvPicPr>
        <p:blipFill>
          <a:blip r:embed="rId3"/>
          <a:stretch/>
        </p:blipFill>
        <p:spPr>
          <a:xfrm flipH="1">
            <a:off x="6772320" y="3305160"/>
            <a:ext cx="998640" cy="1155600"/>
          </a:xfrm>
          <a:prstGeom prst="rect">
            <a:avLst/>
          </a:prstGeom>
          <a:ln w="0">
            <a:noFill/>
          </a:ln>
        </p:spPr>
      </p:pic>
      <p:pic>
        <p:nvPicPr>
          <p:cNvPr id="1117" name="图44.jpg" descr="id:2147497997;FounderCES"/>
          <p:cNvPicPr/>
          <p:nvPr/>
        </p:nvPicPr>
        <p:blipFill>
          <a:blip r:embed="rId4"/>
          <a:stretch/>
        </p:blipFill>
        <p:spPr>
          <a:xfrm>
            <a:off x="3268800" y="2908440"/>
            <a:ext cx="2158920" cy="175896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77"/>
          <p:cNvGrpSpPr/>
          <p:nvPr/>
        </p:nvGrpSpPr>
        <p:grpSpPr>
          <a:xfrm>
            <a:off x="1262160" y="2870280"/>
            <a:ext cx="1241280" cy="1662120"/>
            <a:chOff x="1262160" y="2870280"/>
            <a:chExt cx="1241280" cy="1662120"/>
          </a:xfrm>
        </p:grpSpPr>
        <p:pic>
          <p:nvPicPr>
            <p:cNvPr id="1119" name="图片 2097310" descr="연필"/>
            <p:cNvPicPr/>
            <p:nvPr/>
          </p:nvPicPr>
          <p:blipFill>
            <a:blip r:embed="rId5"/>
            <a:stretch/>
          </p:blipFill>
          <p:spPr>
            <a:xfrm>
              <a:off x="1611360" y="2870280"/>
              <a:ext cx="37764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图片 2097311" descr="꽃"/>
            <p:cNvPicPr/>
            <p:nvPr/>
          </p:nvPicPr>
          <p:blipFill>
            <a:blip r:embed="rId6"/>
            <a:stretch/>
          </p:blipFill>
          <p:spPr>
            <a:xfrm>
              <a:off x="1262160" y="3330000"/>
              <a:ext cx="1241280" cy="120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1" name="图片 2097172" descr=""/>
          <p:cNvPicPr/>
          <p:nvPr/>
        </p:nvPicPr>
        <p:blipFill>
          <a:blip r:embed="rId7"/>
          <a:srcRect l="0" t="0" r="72976" b="0"/>
          <a:stretch/>
        </p:blipFill>
        <p:spPr>
          <a:xfrm>
            <a:off x="6734160" y="4535640"/>
            <a:ext cx="1217520" cy="115704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097173" descr=""/>
          <p:cNvPicPr/>
          <p:nvPr/>
        </p:nvPicPr>
        <p:blipFill>
          <a:blip r:embed="rId8"/>
          <a:srcRect l="0" t="0" r="72978" b="0"/>
          <a:stretch/>
        </p:blipFill>
        <p:spPr>
          <a:xfrm>
            <a:off x="779400" y="4664160"/>
            <a:ext cx="947880" cy="90000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2097174" descr=""/>
          <p:cNvPicPr/>
          <p:nvPr/>
        </p:nvPicPr>
        <p:blipFill>
          <a:blip r:embed="rId9"/>
          <a:stretch/>
        </p:blipFill>
        <p:spPr>
          <a:xfrm>
            <a:off x="372960" y="4776840"/>
            <a:ext cx="405000" cy="34452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097175" descr=""/>
          <p:cNvPicPr/>
          <p:nvPr/>
        </p:nvPicPr>
        <p:blipFill>
          <a:blip r:embed="rId10"/>
          <a:stretch/>
        </p:blipFill>
        <p:spPr>
          <a:xfrm>
            <a:off x="8004240" y="4667400"/>
            <a:ext cx="539640" cy="35712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2097264" descr=""/>
          <p:cNvPicPr/>
          <p:nvPr/>
        </p:nvPicPr>
        <p:blipFill>
          <a:blip r:embed="rId11"/>
          <a:stretch/>
        </p:blipFill>
        <p:spPr>
          <a:xfrm>
            <a:off x="7399440" y="196920"/>
            <a:ext cx="1427040" cy="64908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2097265" descr=""/>
          <p:cNvPicPr/>
          <p:nvPr/>
        </p:nvPicPr>
        <p:blipFill>
          <a:blip r:embed="rId12"/>
          <a:stretch/>
        </p:blipFill>
        <p:spPr>
          <a:xfrm>
            <a:off x="239760" y="141120"/>
            <a:ext cx="538200" cy="514440"/>
          </a:xfrm>
          <a:prstGeom prst="rect">
            <a:avLst/>
          </a:prstGeom>
          <a:ln w="0">
            <a:noFill/>
          </a:ln>
        </p:spPr>
      </p:pic>
      <p:sp>
        <p:nvSpPr>
          <p:cNvPr id="1127" name="任意多边形 1048630"/>
          <p:cNvSpPr/>
          <p:nvPr/>
        </p:nvSpPr>
        <p:spPr>
          <a:xfrm>
            <a:off x="887400" y="146160"/>
            <a:ext cx="2268720" cy="44748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7772400" y="465948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8:13:00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17:22Z</dcterms:modified>
  <cp:revision>84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